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13B9A-9530-4F7B-AF93-36DF2BC23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60318-B2E8-45C4-B523-FBF1329E6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64C91-0D32-43F7-80D9-6ED075C75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8E2E8-F660-4E17-8CF0-755234738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AE9C4-2413-49C4-81E5-CF0843D07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FA4C-5103-47DE-8625-ECD36C97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90D60-B88A-42E1-B60E-A88D74633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F6D12-E0D6-47BC-91B6-A90A5A10E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0A56B-8221-4E97-889E-61418CF10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D4F0-AD99-4598-9916-7E935DC0C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44758-E9CA-4EDC-83DC-0B46F6EDB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E75CF-331D-4300-BD3D-9A0CF932B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92FE-7E41-4328-9C07-FD8C0525C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1T20:12:29Z</dcterms:modified>
  <cp:revision>53</cp:revision>
  <dc:subject/>
  <dc:title>Cromatografía en Lecho Fijo</dc:title>
</cp:coreProperties>
</file>