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CFF-344C-46FE-B9BC-B79DE176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4B7-69FF-42F1-B24E-BD0E419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1AA-4044-4A1B-9830-4B000205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AD4-D5C5-4C54-8E3D-37E733CE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1D1-FE8D-4B4A-8A1E-0B1087FA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819-DBAE-40BC-8643-362F1FCC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0C0-CDC5-41D8-A23B-46501E99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5E5-E159-47F1-BD17-67577DC8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19F-5C1F-4246-8F9A-68AB4F07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FA5-3D8D-461F-A98C-E5299F96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D35-DC92-4923-872C-0DDDA50C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AF4-BCD2-4394-8D69-FB11BE28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94E6-417B-4BE9-BDB9-6F9C82B95D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7-09-06T22:22:58Z</dcterms:modified>
  <cp:revision>16</cp:revision>
  <dc:subject/>
  <dc:title>Perfiles Cromatográficos</dc:title>
</cp:coreProperties>
</file>