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2E0A-57EE-48E1-A18C-6C43B532F34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3AD-8298-4DE8-8748-4570718F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259-3416-4B85-A32E-37F659F9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132-AA11-462D-9C38-7FF57C4E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2643-5C74-49A7-98FF-4D12BD59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D29-C688-4CDE-9BCC-CBD4A231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704-B377-4115-819B-85CB4EC9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2DB-A8AE-4261-A85B-DD705FAA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9143-BBB0-47FB-A6C0-B347BAB7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490C-3AA8-4135-B779-B5F8AF8D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F15-F0D8-4AEB-963E-61966524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721-DFFA-4916-AB6F-54EAF23A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025-700D-47DA-B2D1-44020B18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9EEB-7DC7-48CB-895B-639C54BB4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102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de 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211640" y="2133720"/>
            <a:ext cx="49323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83772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para predecir cambios en las condiciones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442200" y="3716280"/>
            <a:ext cx="270180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id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Total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458136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4000" y="2637000"/>
            <a:ext cx="2519280" cy="1400040"/>
            <a:chOff x="324000" y="2637000"/>
            <a:chExt cx="2519280" cy="1400040"/>
          </a:xfrm>
        </p:grpSpPr>
        <p:sp>
          <p:nvSpPr>
            <p:cNvPr id="168" name=""/>
            <p:cNvSpPr/>
            <p:nvPr/>
          </p:nvSpPr>
          <p:spPr>
            <a:xfrm>
              <a:off x="324000" y="321300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mobile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780000" y="2852280"/>
            <a:ext cx="2519280" cy="1256400"/>
            <a:chOff x="3780000" y="2852280"/>
            <a:chExt cx="2519280" cy="1256400"/>
          </a:xfrm>
        </p:grpSpPr>
        <p:sp>
          <p:nvSpPr>
            <p:cNvPr id="171" name=""/>
            <p:cNvSpPr/>
            <p:nvPr/>
          </p:nvSpPr>
          <p:spPr>
            <a:xfrm>
              <a:off x="3780000" y="328464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stationary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4427640" y="2852280"/>
              <a:ext cx="28872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174" name="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Mass transport by conv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177" name="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n-GB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n-GB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971640" y="5445000"/>
            <a:ext cx="78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lculated elution curve using the equilibrium theory as a function of non linearity of the distribution coefficient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esentan los balances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9640" y="333360"/>
            <a:ext cx="8064720" cy="63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para predecir los perfiles cromato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Predicen los tiempos de re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La forma de las cu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son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canís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o en los mecanismos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-mecanís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s estadísticos que describen las curvas en base a ecuaciones de Gauss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520" y="0"/>
            <a:ext cx="82296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eoría de platos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447920" y="2666880"/>
                <a:ext cx="4838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04920" y="3649680"/>
            <a:ext cx="8839080" cy="2953800"/>
            <a:chOff x="304920" y="3649680"/>
            <a:chExt cx="8839080" cy="2953800"/>
          </a:xfrm>
        </p:grpSpPr>
        <p:sp>
          <p:nvSpPr>
            <p:cNvPr id="221" name=""/>
            <p:cNvSpPr/>
            <p:nvPr/>
          </p:nvSpPr>
          <p:spPr>
            <a:xfrm>
              <a:off x="304920" y="3886200"/>
              <a:ext cx="51814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 </a:t>
              </a: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Ecuación de un perfil cromatográf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7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onde yo: Concentración máxima en el perf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s la desviación estándar ,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= 1/N</a:t>
              </a:r>
              <a:r>
                <a:rPr b="0" lang="es-E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533520" y="4495680"/>
                  <a:ext cx="36003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223" name=""/>
            <p:cNvGrpSpPr/>
            <p:nvPr/>
          </p:nvGrpSpPr>
          <p:grpSpPr>
            <a:xfrm>
              <a:off x="5638680" y="3649680"/>
              <a:ext cx="3505320" cy="2753640"/>
              <a:chOff x="5638680" y="3649680"/>
              <a:chExt cx="3505320" cy="2753640"/>
            </a:xfrm>
          </p:grpSpPr>
          <p:graphicFrame>
            <p:nvGraphicFramePr>
              <p:cNvPr id="224" name=""/>
              <p:cNvGraphicFramePr/>
              <p:nvPr/>
            </p:nvGraphicFramePr>
            <p:xfrm>
              <a:off x="5638680" y="3649680"/>
              <a:ext cx="3505320" cy="2554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649680"/>
                        <a:ext cx="350532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"/>
              <p:cNvSpPr/>
              <p:nvPr/>
            </p:nvSpPr>
            <p:spPr>
              <a:xfrm>
                <a:off x="7772400" y="5943600"/>
                <a:ext cx="457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58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64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68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5640" y="2286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Types of chromatographic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990720"/>
            <a:ext cx="548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33"/>
                </a:solidFill>
                <a:uFillTx/>
                <a:latin typeface="Comic Sans MS"/>
              </a:rPr>
              <a:t>Displacement chroma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A procedure in which the mobile phase contains a compound more strongly retained than the components of the sample under examination. The sample is fed into the system as a finite slu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The main disadvantage is that it can not elute solutes discretely and each solute will always be contaminated by its neighbo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26920" y="1881360"/>
          <a:ext cx="7848720" cy="41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7848720" cy="41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84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90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7-09-03T20:38:17Z</dcterms:modified>
  <cp:revision>119</cp:revision>
  <dc:subject/>
  <dc:title>Separación Sólido-Líquido</dc:title>
</cp:coreProperties>
</file>