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3.png" ContentType="image/png"/>
  <Override PartName="/ppt/media/image19.png" ContentType="image/png"/>
  <Override PartName="/ppt/media/image18.wmf" ContentType="image/x-wmf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94DA-B213-47D3-9414-A8D3DD7580A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ase of statistical models, the most classical model is the statistical mo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ormalized statistical moment is compu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 is the concentration in the mobile phase and t is th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model, the first statistical moment represents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ention time of the curve, that is, the retention time of the prote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cond moment indicates the variance around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ention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oment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gnitude of the peak a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inally, the fourth one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flatness of th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oment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gnitude of the peak a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inally, the fourth one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flatness of th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case, a basic equation in the </a:t>
            </a: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quilibrium theory is given by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is is the Accumulation of the solute in the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ccumulation of the solute in the stationary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is is the mass transport by conv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quilibrium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iven by this distribution coefficient is used, and where the distribution coefficient is a concentration function of the protein in the mobile phase, then it is possible to obtain adequate elution curv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, THERE are here different calculated elution curves using the equilibrium theory as a function of no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ear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the distribution coeffic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he seco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MENT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is 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Displacement Chroma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graphy.  In this case, the mobile phase contain</a:t>
            </a: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a co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ent (the displacer) more strongly retained THAN the co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ent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of the sample under examination. The sa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le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is fed into the system as a 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fi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ite slu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Unfortunately, the main disadvantage of this procedure is that it can not elute solute</a:t>
            </a: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discretely, and each solute will always be contamina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TED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by its neighb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0215-AEEE-458B-B935-D79BF134C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0065-EB67-4DFD-B290-9DACE962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0F19-4798-4AC4-8FE9-ABFE2461D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9AE6-CD67-40BC-A86D-18CED411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583C-49BE-43C1-AECF-52E503AE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73E3-703F-48CF-B0B3-00D0258D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93E5-2AA6-4977-ADCD-0B037714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B7D8-F373-4412-A9DA-6C536EC0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0079-6A34-4348-8E41-150AE6AA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0FBB-7A94-41F6-AB54-79F9611C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9B8C-38D1-4862-B6EE-F43AB839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EE5E-8624-49CF-9AEF-20792456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B9A9-C9F6-4B8D-A2AC-596BFB0F9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8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urific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0920" y="260280"/>
            <a:ext cx="853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MMode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Se pueden plantear un modelo de adsorción para predecir la “curva de ruptura” o “breakthrought curve” basado e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432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5000"/>
            <a:ext cx="4952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Balances de masa del soluto en una sec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n estado no estac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)</a:t>
            </a: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érminos de acumulación tanto en el adsorbente  como en los interst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)</a:t>
            </a:r>
            <a:r>
              <a:rPr b="0" lang="es-ES_tradnl" sz="1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Flujos de entra y salida por Dispersión 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i) </a:t>
            </a:r>
            <a:r>
              <a:rPr b="0" lang="es-ES_tradnl" sz="1800" spc="-1" strike="noStrike">
                <a:solidFill>
                  <a:srgbClr val="660033"/>
                </a:solidFill>
                <a:latin typeface="Comic Sans MS"/>
                <a:ea typeface="Times New Roman"/>
              </a:rPr>
              <a:t>Flujo de entrada y salida por Conv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72280" y="1773360"/>
          <a:ext cx="3771720" cy="40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2280" y="1773360"/>
                    <a:ext cx="377172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2120" y="5272200"/>
            <a:ext cx="761976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ES_tradnl" sz="14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AZ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efectivo de dispersión ax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 : Velocidad superficial del fluido (u = Q/Ac*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: Fracción de huecos ( e = (Vt-Vs) /V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t: Volumen Total de la colum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s: Volumen de res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: Area transversal de la columna</a:t>
            </a: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28600" y="914400"/>
            <a:ext cx="8458200" cy="1511280"/>
            <a:chOff x="228600" y="914400"/>
            <a:chExt cx="8458200" cy="1511280"/>
          </a:xfrm>
        </p:grpSpPr>
        <p:sp>
          <p:nvSpPr>
            <p:cNvPr id="102" name=""/>
            <p:cNvSpPr/>
            <p:nvPr/>
          </p:nvSpPr>
          <p:spPr>
            <a:xfrm>
              <a:off x="304560" y="914400"/>
              <a:ext cx="83822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implific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No hay ni generación, ni consumo de solut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8600" y="2057400"/>
              <a:ext cx="83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que entra} – {Masa que sale} = </a:t>
              </a: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Acumulada}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32000" y="2743200"/>
            <a:ext cx="5892480" cy="1576440"/>
            <a:chOff x="432000" y="2743200"/>
            <a:chExt cx="5892480" cy="1576440"/>
          </a:xfrm>
        </p:grpSpPr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1752480" y="3276720"/>
                  <a:ext cx="4572000" cy="10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Z</m:t>
                          </m:r>
                        </m:sub>
                      </m:sSub>
                      <m:f>
                        <m:num>
                          <m:sSup>
                            <m:e>
                              <m:r>
                                <m:t xml:space="preserve">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r>
                        <m:t xml:space="preserve">u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=  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ε</m:t>
                          </m:r>
                        </m:num>
                        <m:den>
                          <m:r>
                            <m:t xml:space="preserve">ε</m:t>
                          </m:r>
                        </m:den>
                      </m:f>
                      <m:r>
                        <m:t xml:space="preserve">)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"/>
            <p:cNvSpPr/>
            <p:nvPr/>
          </p:nvSpPr>
          <p:spPr>
            <a:xfrm>
              <a:off x="432000" y="2743200"/>
              <a:ext cx="353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El Balance se expresa como</a:t>
              </a: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-380880" y="4495680"/>
            <a:ext cx="98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a50021"/>
                </a:solidFill>
                <a:latin typeface="Times New Roman"/>
              </a:rPr>
              <a:t>Dispersión axial + Flujo = Acumulación intersticios+ Acumulación por adsorc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que entra} – {Masa que sale}+{Masa generada} –{Masa Consumida}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Acumulada}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228600"/>
            <a:ext cx="78487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diciones de equilibrio (tipo de isoter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inea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ngmui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r>
              <a:rPr b="1" lang="es-ES" sz="1800" spc="-1" strike="noStrike" baseline="30000">
                <a:solidFill>
                  <a:srgbClr val="a50021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reundlich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(q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o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)</a:t>
            </a:r>
            <a:r>
              <a:rPr b="1" lang="es-ES_tradnl" sz="1800" spc="-1" strike="noStrike">
                <a:solidFill>
                  <a:srgbClr val="a50021"/>
                </a:solidFill>
                <a:latin typeface="Comic Sans MS"/>
              </a:rPr>
              <a:t>/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(K +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2362320"/>
            <a:ext cx="518148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i) Transferencia desde el seno del líquido hasta la capa límite que rodea 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ifusión en el film que rode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nsferencia a través del líquido que existe en los poros de la partícula hacia las superficies inter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fusión a lo largo de la superficie de los poros inter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486400" y="2438280"/>
          <a:ext cx="3657600" cy="37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438280"/>
                    <a:ext cx="3657600" cy="37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80880" y="19051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inética de adsorción, la cual puede estar controlada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304920"/>
            <a:ext cx="8229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controlante es la Difusión en el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K</a:t>
            </a:r>
            <a:r>
              <a:rPr b="0" lang="es-ES_tradnl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transferencia de 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Area de adsorbente por unidad de volumen de l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y* Concentración hipotética de soluto en el líquido en equilibrio con la concentración de soluto en el adsorbente.</a:t>
            </a:r>
            <a:r>
              <a:rPr b="0" lang="es-ES" sz="2000" spc="-1" strike="noStrike">
                <a:solidFill>
                  <a:srgbClr val="6699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24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362320" y="914400"/>
                <a:ext cx="32385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85800" y="5410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stema de ecuaciones resulta difícil de resolver, se suelen utilizar métodos numéricos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267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La etapa Controlante puede variar según la escala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ón en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romatografía de 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1066680"/>
            <a:ext cx="800100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romatografía es un método de separación par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solver mezclas y aislar compo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base de la cromatografía e la migración diferencial, es decir, el retardo selectivo de las moléculas de soluto durante su paso a través del lecho de partículas de res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3124080"/>
            <a:ext cx="77724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el caso de las cromatografías de elución se utilizan los 5 pasos mencionados para la adsor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Equilibri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Inyección d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avad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impieza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228600"/>
            <a:ext cx="7772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puede ser llevada a cabo de varias form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socrá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 eluy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 mantiene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638680" y="609480"/>
          <a:ext cx="242892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609480"/>
                    <a:ext cx="242892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5638680" y="2514600"/>
          <a:ext cx="2514600" cy="19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514600"/>
                    <a:ext cx="25146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715000" y="4648320"/>
          <a:ext cx="2590920" cy="205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4648320"/>
                    <a:ext cx="2590920" cy="20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33520" y="2819520"/>
            <a:ext cx="4419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a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l eluyente varía gradual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Escalo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304920"/>
            <a:ext cx="7925040" cy="53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s formulados para Procesos Cromatográficos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modelos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Predicen los tiempos de reten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La forma de las cur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modelos so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adíst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elos de balance de ma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 pl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562720" y="1752480"/>
          <a:ext cx="3143160" cy="24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752480"/>
                    <a:ext cx="3143160" cy="24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Estadístic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000" y="4724280"/>
            <a:ext cx="380988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(t):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: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619280" y="2276640"/>
          <a:ext cx="2232000" cy="19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276640"/>
                    <a:ext cx="223200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826920" y="1125360"/>
            <a:ext cx="7561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eoría de los momentos estadísticos de Gidding y Eyring (195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momento se calcula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211640" y="2133720"/>
            <a:ext cx="4932360" cy="38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076720" y="549360"/>
            <a:ext cx="3670560" cy="3959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620640"/>
            <a:ext cx="42483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primer momento,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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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representa el tiempo de retención medio de la cur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3645000"/>
            <a:ext cx="42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segundo momento indica la varianza alrededor del valor medio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547640" y="1609560"/>
          <a:ext cx="193212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609560"/>
                    <a:ext cx="193212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835280" y="4724280"/>
          <a:ext cx="2449440" cy="157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35280" y="4724280"/>
                    <a:ext cx="244944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tercer momento indica la magnitud de la asimetria del peak (Skewn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843280" y="3141720"/>
          <a:ext cx="419076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3141720"/>
                    <a:ext cx="419076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067280" y="1989000"/>
                <a:ext cx="194472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wnes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Adsorción en lecho fi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cuarto momento indica la delgadez del peak (Kurtosis)</a:t>
            </a: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195640" y="3573360"/>
          <a:ext cx="4103640" cy="27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3573360"/>
                    <a:ext cx="410364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987640" y="2219400"/>
                <a:ext cx="262404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urtosi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116000" y="3141720"/>
            <a:ext cx="77040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Estadístic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8920" y="83772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</a:t>
            </a:r>
            <a:r>
              <a:rPr b="1" lang="es-E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lo estocástic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delo dinámico molecul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basa en que la reacción de adsorción y desorción en la superficie es el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aso controlante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despreciando los fenómenos de transferencia de ma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scribir la distribución del tiempo de retención como una función de distribución del tipo de Poiss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</a:t>
            </a:r>
            <a:r>
              <a:rPr b="1" i="1" lang="en-US" sz="4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quilibri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nsidera el equilibrio entre las dos fases (sólido y solució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soluto se distribuye entre las 2 fases (en equilibrio) según una constante de 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nstante de Distribución</a:t>
            </a: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K = q/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No considera la dispersión axial ni la resistencia a la transferencia de ma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ste tipo de modelos permite predecir el tiempo de retención en la columna de cromatografía cuando la transferencia de masa es prácticamente infinita, pero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alla para predecir cambios en las condiciones de oper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eoria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7993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ecuación básica en el equilibrio está dada p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247840" y="1989000"/>
                <a:ext cx="37814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u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6442200" y="3716280"/>
            <a:ext cx="2701800" cy="19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W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H = (V</a:t>
            </a:r>
            <a:r>
              <a:rPr b="1" lang="en-GB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t</a:t>
            </a: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-V</a:t>
            </a:r>
            <a:r>
              <a:rPr b="1" lang="en-GB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o</a:t>
            </a: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)/V</a:t>
            </a:r>
            <a:r>
              <a:rPr b="1" lang="en-GB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Vo: Void volume of the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Vt : Total volume of the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4581360"/>
            <a:ext cx="482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quilibr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 = K*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24000" y="2637000"/>
            <a:ext cx="2519280" cy="1400040"/>
            <a:chOff x="324000" y="2637000"/>
            <a:chExt cx="2519280" cy="1400040"/>
          </a:xfrm>
        </p:grpSpPr>
        <p:sp>
          <p:nvSpPr>
            <p:cNvPr id="168" name=""/>
            <p:cNvSpPr/>
            <p:nvPr/>
          </p:nvSpPr>
          <p:spPr>
            <a:xfrm>
              <a:off x="324000" y="3213000"/>
              <a:ext cx="2519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Accumulation of the solute in the mobile pha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1619280" y="2637000"/>
              <a:ext cx="79200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780000" y="2852280"/>
            <a:ext cx="2519280" cy="1256400"/>
            <a:chOff x="3780000" y="2852280"/>
            <a:chExt cx="2519280" cy="1256400"/>
          </a:xfrm>
        </p:grpSpPr>
        <p:sp>
          <p:nvSpPr>
            <p:cNvPr id="171" name=""/>
            <p:cNvSpPr/>
            <p:nvPr/>
          </p:nvSpPr>
          <p:spPr>
            <a:xfrm>
              <a:off x="3780000" y="3284640"/>
              <a:ext cx="2519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Accumulation of the solute in the stationary pha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4427640" y="2852280"/>
              <a:ext cx="288720" cy="50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012000" y="2276640"/>
            <a:ext cx="3132000" cy="580680"/>
            <a:chOff x="6012000" y="2276640"/>
            <a:chExt cx="3132000" cy="580680"/>
          </a:xfrm>
        </p:grpSpPr>
        <p:sp>
          <p:nvSpPr>
            <p:cNvPr id="174" name=""/>
            <p:cNvSpPr/>
            <p:nvPr/>
          </p:nvSpPr>
          <p:spPr>
            <a:xfrm>
              <a:off x="6624720" y="2276640"/>
              <a:ext cx="251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Mass transport by conv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6012000" y="2420640"/>
              <a:ext cx="50472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058920" y="5877000"/>
            <a:ext cx="3659760" cy="793080"/>
            <a:chOff x="3058920" y="5877000"/>
            <a:chExt cx="3659760" cy="793080"/>
          </a:xfrm>
        </p:grpSpPr>
        <p:sp>
          <p:nvSpPr>
            <p:cNvPr id="177" name=""/>
            <p:cNvSpPr/>
            <p:nvPr/>
          </p:nvSpPr>
          <p:spPr>
            <a:xfrm>
              <a:off x="3714120" y="6021360"/>
              <a:ext cx="3004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K = 1-K</a:t>
              </a:r>
              <a:r>
                <a:rPr b="1" lang="en-GB" sz="3200" spc="-1" strike="noStrike" baseline="-25000">
                  <a:solidFill>
                    <a:srgbClr val="a50021"/>
                  </a:solidFill>
                  <a:latin typeface="Comic Sans MS"/>
                  <a:ea typeface="Times New Roman"/>
                </a:rPr>
                <a:t>1*</a:t>
              </a:r>
              <a:r>
                <a:rPr b="1" lang="en-GB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(</a:t>
              </a:r>
              <a:r>
                <a:rPr b="1" lang="en-GB" sz="32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C</a:t>
              </a:r>
              <a:r>
                <a:rPr b="1" lang="en-GB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/Co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3058920" y="5877000"/>
              <a:ext cx="433080" cy="50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1403280" y="333360"/>
            <a:ext cx="6913440" cy="4893840"/>
            <a:chOff x="1403280" y="333360"/>
            <a:chExt cx="6913440" cy="489384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1403280" y="333360"/>
              <a:ext cx="6913440" cy="48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3412080" y="4806720"/>
              <a:ext cx="289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971640" y="5445000"/>
            <a:ext cx="7848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lculated elution curve using the equilibrium theory as a function of non linearity of the distribution coefficient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15000" y="1130400"/>
            <a:ext cx="1883160" cy="491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K = 1-K</a:t>
            </a:r>
            <a:r>
              <a:rPr b="1" lang="en-GB" sz="20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1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(C/Co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Balances de Masa (Rat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8920" y="1143000"/>
            <a:ext cx="871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presentan los balances  para la fase móvil y otro para las partícu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incluye la expresión para describir la transferencia de masa interfacial entre la fase móvil y la estacion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transferencia de masa puede ser controlada por uno o más de los siguientes fenómen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a la transferencia de masa ex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a la transferencia de masa in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relacionada con la cinética de reacción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39640" y="333360"/>
            <a:ext cx="8064720" cy="63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para predecir los perfiles cromatográ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modelos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Predicen los tiempos de reten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La forma de las cu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modelos son del ti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Mecanístic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sado en los mecanismos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o-mecaníst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os estadísticos que describen las curvas en base a ecuaciones de Gaussi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33520" y="0"/>
            <a:ext cx="822960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aproximación numé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eoría de platos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2895480"/>
            <a:ext cx="8153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sol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Acumulación de soluto en el líquido}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 Entrada de soluto} –{Salida de soluto} –{Adsorción en la matriz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752480" y="4495680"/>
                <a:ext cx="63248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533520" y="1066680"/>
            <a:ext cx="342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iste en simular el lecho fijo como un conjunto de N reactores perfectamente agitados en serie.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5334120"/>
            <a:ext cx="800100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cción de volumen de líquido por etapa o fracción de huecos por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 : Volumen de la etapa n (líquido + adsorbente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419720" y="380880"/>
          <a:ext cx="123336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80880"/>
                    <a:ext cx="12333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5562720" y="1143000"/>
          <a:ext cx="358128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1143000"/>
                    <a:ext cx="35812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8534520" y="4724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638680" y="16002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53352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609480"/>
            <a:ext cx="739152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lineal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= k y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98108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las relaciones (1) y (2) se tien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099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447920" y="2666880"/>
                <a:ext cx="48387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609480" y="388620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*= [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(1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:  Volumen equivalente al líquido de cad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do que el volumen total del lecho es V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c = N 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fine la variable : Tiempo adimensional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671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295280" y="5715000"/>
                <a:ext cx="55627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5334120" y="990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467480" y="2743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772400" y="5791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33520" y="762120"/>
            <a:ext cx="807696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o la ecuación (3) queda de la 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las condiciones para integr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) Para todo t &lt;o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   n =1,2,....,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) Inyección inicial d un pulso muy corto t=0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196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905120" y="1371600"/>
                <a:ext cx="23619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380880" y="3886200"/>
            <a:ext cx="7925040" cy="28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respuesta a esta integral es una Distribución de Pois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centración en el pulso de alimenta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2888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133720" y="4952880"/>
                <a:ext cx="29001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7960" y="76320"/>
            <a:ext cx="863604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66"/>
                </a:solidFill>
                <a:uFillTx/>
                <a:latin typeface="Comic Sans MS"/>
              </a:rPr>
              <a:t>Cromatografía de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</a:rPr>
              <a:t>Es la técnica más utilizada a escala industrial para la purificación de proteínas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</a:rPr>
              <a:t>, debido principalmente  a  presentar la mayor área de adsorción por unidad de volu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8140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362320" y="2666880"/>
          <a:ext cx="51051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666880"/>
                    <a:ext cx="51051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361944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</a:rPr>
              <a:t>Consiste en una columna o tubo vertical relleno con partículas de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6385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914400" y="304920"/>
          <a:ext cx="396252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04920"/>
                    <a:ext cx="396252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5943600" y="685800"/>
            <a:ext cx="2286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 N &gt; 30 esta distribución tiende a una Distribu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04920" y="3649680"/>
            <a:ext cx="8839080" cy="2953800"/>
            <a:chOff x="304920" y="3649680"/>
            <a:chExt cx="8839080" cy="2953800"/>
          </a:xfrm>
        </p:grpSpPr>
        <p:sp>
          <p:nvSpPr>
            <p:cNvPr id="221" name=""/>
            <p:cNvSpPr/>
            <p:nvPr/>
          </p:nvSpPr>
          <p:spPr>
            <a:xfrm>
              <a:off x="304920" y="3886200"/>
              <a:ext cx="5181480" cy="271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3333cc"/>
                  </a:solidFill>
                  <a:uFillTx/>
                  <a:latin typeface="Times New Roman"/>
                  <a:ea typeface="Times New Roman"/>
                </a:rPr>
                <a:t> </a:t>
              </a:r>
              <a:r>
                <a:rPr b="1" lang="es-ES_tradnl" sz="2000" spc="-1" strike="noStrike" u="sng">
                  <a:solidFill>
                    <a:srgbClr val="3333cc"/>
                  </a:solidFill>
                  <a:uFillTx/>
                  <a:latin typeface="Times New Roman"/>
                  <a:ea typeface="Times New Roman"/>
                </a:rPr>
                <a:t>Ecuación de un perfil cromatográf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(7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Donde yo: Concentración máxima en el perf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s la desviación estándar ,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0" lang="es-ES_tradnl" sz="20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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= 1/N</a:t>
              </a:r>
              <a:r>
                <a:rPr b="0" lang="es-E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533520" y="4495680"/>
                  <a:ext cx="3600360" cy="104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exp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τ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223" name=""/>
            <p:cNvGrpSpPr/>
            <p:nvPr/>
          </p:nvGrpSpPr>
          <p:grpSpPr>
            <a:xfrm>
              <a:off x="5638680" y="3649680"/>
              <a:ext cx="3505320" cy="2753640"/>
              <a:chOff x="5638680" y="3649680"/>
              <a:chExt cx="3505320" cy="2753640"/>
            </a:xfrm>
          </p:grpSpPr>
          <p:graphicFrame>
            <p:nvGraphicFramePr>
              <p:cNvPr id="224" name=""/>
              <p:cNvGraphicFramePr/>
              <p:nvPr/>
            </p:nvGraphicFramePr>
            <p:xfrm>
              <a:off x="5638680" y="3649680"/>
              <a:ext cx="3505320" cy="2554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2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638680" y="3649680"/>
                        <a:ext cx="3505320" cy="2554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6" name=""/>
              <p:cNvSpPr/>
              <p:nvPr/>
            </p:nvSpPr>
            <p:spPr>
              <a:xfrm>
                <a:off x="7772400" y="5943600"/>
                <a:ext cx="4572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0880" y="380880"/>
            <a:ext cx="8305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l número de platos,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terminar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05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514600" y="838080"/>
                <a:ext cx="19382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40957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267080" y="1752480"/>
                <a:ext cx="17719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228600" y="2895480"/>
            <a:ext cx="8610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 la constante de la isoterma,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ción de la constante k de la isote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mostrar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spejar k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05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895480" y="4267080"/>
                <a:ext cx="431964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o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ξ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403848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2438280" y="5334120"/>
                <a:ext cx="22860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romatografía de B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0 g de BSA son eluidos desde una columna de 80 litros de Sephadex, con una fracción de huecos de 0.4. La proteína eluyó a los 470 litros, el máximo de concentración es de 1.8% de la concentración máxima que se inyect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onstante de equilibrio con la cual se une la BSA al Sepha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número de platos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erfil de elución de BSA desde la column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828800" y="457200"/>
            <a:ext cx="5943240" cy="5866920"/>
            <a:chOff x="1828800" y="457200"/>
            <a:chExt cx="5943240" cy="5866920"/>
          </a:xfrm>
        </p:grpSpPr>
        <p:sp>
          <p:nvSpPr>
            <p:cNvPr id="58" name=""/>
            <p:cNvSpPr/>
            <p:nvPr/>
          </p:nvSpPr>
          <p:spPr>
            <a:xfrm>
              <a:off x="2375280" y="457200"/>
              <a:ext cx="537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66"/>
                  </a:solidFill>
                  <a:uFillTx/>
                  <a:latin typeface="Comic Sans MS"/>
                </a:rPr>
                <a:t>Esquema de una Cromatografía en  Lecho Fi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" name=""/>
            <p:cNvGraphicFramePr/>
            <p:nvPr/>
          </p:nvGraphicFramePr>
          <p:xfrm>
            <a:off x="1828800" y="1296000"/>
            <a:ext cx="5943240" cy="502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1296000"/>
                      <a:ext cx="5943240" cy="502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380880"/>
            <a:ext cx="815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Las cromatografías en Lecho Fijo son procesos no estacionari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El líquido que contiene el soluto se hace pasar a través del lecho y la carga o cantidad de producto retenido va aumentando en el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e pueden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llev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r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a cabo de dos form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3848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4648320"/>
            <a:ext cx="8191440" cy="1741320"/>
            <a:chOff x="533520" y="4648320"/>
            <a:chExt cx="8191440" cy="1741320"/>
          </a:xfrm>
        </p:grpSpPr>
        <p:graphicFrame>
          <p:nvGraphicFramePr>
            <p:cNvPr id="64" name=""/>
            <p:cNvGraphicFramePr/>
            <p:nvPr/>
          </p:nvGraphicFramePr>
          <p:xfrm>
            <a:off x="5638680" y="4724280"/>
            <a:ext cx="3086280" cy="1665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4724280"/>
                      <a:ext cx="3086280" cy="166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533520" y="4648320"/>
              <a:ext cx="4190760" cy="16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Cromatografía de </a:t>
              </a:r>
              <a:r>
                <a:rPr b="1" lang="es-ES" sz="18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Elu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a50021"/>
                  </a:solidFill>
                  <a:latin typeface="Comic Sans MS"/>
                </a:rPr>
                <a:t>Inyecta una muestra y luego se aplican condiciones que las proteínas eluyan en forma diferen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85800" y="2057400"/>
            <a:ext cx="8172360" cy="2178000"/>
            <a:chOff x="685800" y="2057400"/>
            <a:chExt cx="8172360" cy="2178000"/>
          </a:xfrm>
        </p:grpSpPr>
        <p:graphicFrame>
          <p:nvGraphicFramePr>
            <p:cNvPr id="68" name=""/>
            <p:cNvGraphicFramePr/>
            <p:nvPr/>
          </p:nvGraphicFramePr>
          <p:xfrm>
            <a:off x="5410080" y="2057400"/>
            <a:ext cx="3448080" cy="211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0080" y="2057400"/>
                      <a:ext cx="3448080" cy="21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" name=""/>
            <p:cNvSpPr/>
            <p:nvPr/>
          </p:nvSpPr>
          <p:spPr>
            <a:xfrm>
              <a:off x="685800" y="2209680"/>
              <a:ext cx="449568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Análisis Frontal</a:t>
              </a:r>
              <a:r>
                <a:rPr b="1" lang="es-ES_tradnl" sz="18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Se alimenta constantemente la columna </a:t>
              </a: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hasta que se satura, se utiliza para caracterizar la capacidad de la columna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55640" y="22860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Types of chromatographic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990720"/>
            <a:ext cx="5486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33"/>
                </a:solidFill>
                <a:uFillTx/>
                <a:latin typeface="Comic Sans MS"/>
              </a:rPr>
              <a:t>Displacement chromat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A procedure in which the mobile phase contains a compound more strongly retained than the components of the sample under examination. The sample is fed into the system as a finite slu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The main disadvantage is that it can not elute solutes discretely and each solute will always be contaminated by its neighbou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1413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59640" y="112536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 + displa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156360" y="1916280"/>
            <a:ext cx="211752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0"/>
            <a:ext cx="79246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AAnálisis Fr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Curva de Ruptura ( Breakthrough curv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SSe alimenta constantemente la columna hasta que se satur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826920" y="1881360"/>
          <a:ext cx="7848720" cy="41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81360"/>
                    <a:ext cx="7848720" cy="41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533520" y="5972040"/>
            <a:ext cx="86104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R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de quiebre donde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se empieza a saturar la colum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S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cuando la columna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st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á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completamente saturada y es completamente ineficiente.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28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e utiliza para caracterizar la capacidad de la columna.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Dado que la forma de la curva influye fuertemente el diseño y operación de la colum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371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l área bajo la curva es la cantidad de soluto que se ha perdido en el efluente, luego se hace necesario detener el proceso antes que el lecho quede completamente satu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438280" y="2590920"/>
            <a:ext cx="4190760" cy="3657600"/>
            <a:chOff x="2438280" y="2590920"/>
            <a:chExt cx="4190760" cy="3657600"/>
          </a:xfrm>
        </p:grpSpPr>
        <p:graphicFrame>
          <p:nvGraphicFramePr>
            <p:cNvPr id="84" name=""/>
            <p:cNvGraphicFramePr/>
            <p:nvPr/>
          </p:nvGraphicFramePr>
          <p:xfrm>
            <a:off x="2438280" y="2590920"/>
            <a:ext cx="4190760" cy="365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2590920"/>
                      <a:ext cx="419076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898440" y="4038480"/>
              <a:ext cx="1265760" cy="6858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886200"/>
            <a:ext cx="79250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La predicción de la curva, permite diseñar columnas pa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Alcanzar cierto grado de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cu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imar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Dimensionar la column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así se determina la cantidad de resina y el tiempo requerido para la adsorción de una cantidad determinada de solu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952880" y="228600"/>
            <a:ext cx="3810240" cy="3498840"/>
            <a:chOff x="4952880" y="228600"/>
            <a:chExt cx="3810240" cy="3498840"/>
          </a:xfrm>
        </p:grpSpPr>
        <p:graphicFrame>
          <p:nvGraphicFramePr>
            <p:cNvPr id="90" name=""/>
            <p:cNvGraphicFramePr/>
            <p:nvPr/>
          </p:nvGraphicFramePr>
          <p:xfrm>
            <a:off x="4952880" y="228600"/>
            <a:ext cx="3810240" cy="3498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52880" y="228600"/>
                      <a:ext cx="3810240" cy="349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 flipV="1">
              <a:off x="6324480" y="1066680"/>
              <a:ext cx="533520" cy="759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6552720" y="2514600"/>
              <a:ext cx="685800" cy="76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28600" y="11430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o produce el inconvenientes que se desaprovecha una parte de la capacidad del lec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7-09-03T20:38:17Z</dcterms:modified>
  <cp:revision>119</cp:revision>
  <dc:subject/>
  <dc:title>Separación Sólido-Líquido</dc:title>
</cp:coreProperties>
</file>