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337-432C-425F-8FF3-9A129E36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11A-BBA8-4B95-ADCC-8ADEF061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9C6-BDE0-4159-8FD9-C6C45411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399-6930-48F1-BE4D-96F0C926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4E9-3C87-45CA-8A38-266935E1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36E-879A-4850-A89B-1D0E5880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8A1-F26C-4C3D-B0F9-E32DC1B5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155-F403-4A13-8AA4-4D20C0D8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525-0F98-4877-991C-9F045FAA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694-9326-4AE1-AC97-4862AE1E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B52-E2DE-44E3-972D-3481745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433-A003-46A8-8F93-DFC19B6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84BD-9B62-4C87-A2D7-382422018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8-21T22:55:14Z</dcterms:modified>
  <cp:revision>124</cp:revision>
  <dc:subject/>
  <dc:title>Separación Sólido-Líquido</dc:title>
</cp:coreProperties>
</file>