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618-EE7E-40A0-B6C2-40BD7819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3F8-6478-48A4-AEBC-BD1ABC1C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14B-EFF0-4764-9BF1-3AB5A9EB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312-E5D1-486E-9482-D552972F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3AA-4F2A-4DB9-9A30-F022370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1B2-284F-4AF1-8971-D33CDE2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04C-35BC-47E0-B719-CC085088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A3E-7950-4A93-A67E-83B14BE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FF6-782B-49AB-BD81-B79C61B6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9D5-99EC-48F0-80AA-A35B2F7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A11-C59B-402F-92BD-CA6EABE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121-1A06-42C1-BA91-CA02DE9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B85-F606-447F-B54A-93152EFF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8-21T22:55:14Z</dcterms:modified>
  <cp:revision>124</cp:revision>
  <dc:subject/>
  <dc:title>Separación Sólido-Líquido</dc:title>
</cp:coreProperties>
</file>