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682-97C8-4FAF-989B-9D25F8D3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2FA-F9FC-4603-AE9F-F660CA71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347-9CBD-4A59-9BDC-F8C08857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88C-677F-4149-B703-52306CA5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28C-6A46-444C-9ABE-1EBA1D14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E4F-C944-4D38-90A6-6522A639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9AC-3F50-446B-B03A-A51C8F87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0BC-49C3-4D27-BD4A-2EA80B1A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73F-E4A6-4E06-A64F-F85C1DE7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883-0AC8-4AEC-845B-32FFDE23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DF8-695A-4D75-8904-F033022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8F5-94D9-4D96-81DB-F95B9B18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7428-E01E-45C3-90F0-C72BBA324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496880" y="4830840"/>
          <a:ext cx="227196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830840"/>
                    <a:ext cx="22719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572000" y="486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q en mg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95520" y="5805360"/>
          <a:ext cx="20336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5805360"/>
                    <a:ext cx="20336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572000" y="5950080"/>
            <a:ext cx="38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lt, q en mg/c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volumen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49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ecuaciones a considerar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= 35,1 * y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,45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 q [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 e y [mg/m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68360" y="1989000"/>
                <a:ext cx="7170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5280" y="3357720"/>
            <a:ext cx="84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= 13.8 [mg/c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0.105 [mg/l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 % de recuperación = (46-0.105)/46=99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 ALTAMENTE  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8-21T22:55:14Z</dcterms:modified>
  <cp:revision>124</cp:revision>
  <dc:subject/>
  <dc:title>Separación Sólido-Líquido</dc:title>
</cp:coreProperties>
</file>