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7E9-D1C6-4082-88E7-5E701F45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9F6-8881-4390-A025-D508D28E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E70-5A06-43B5-A26E-F28597FE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C1B-0A9B-4C5C-BB8E-20E8EC3E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058-1E8D-496F-AFF5-D6FDED37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AC4-3262-44FB-B9E9-89F115A6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244-59EE-48F0-A016-892F1C7F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0FA-3BFB-4E96-AE34-70DB8D58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5E5-99BA-44FC-BA81-FB6F9F64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427-724D-476F-9F03-0D79945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94A-53E8-4DFA-8D6F-719837D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5AB-E263-4B6A-8501-6E2ED14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889D-8F10-4A04-9A58-278A81E09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56959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21360" y="2997360"/>
            <a:ext cx="3122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438800"/>
            <a:ext cx="734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25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7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1.0133*10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[N s/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333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l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 (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3789360"/>
          <a:ext cx="346716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789360"/>
                    <a:ext cx="346716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877080" y="3716280"/>
            <a:ext cx="2016000" cy="2017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609480"/>
            <a:ext cx="792468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68360" y="2852640"/>
                <a:ext cx="4050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7236000" y="29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360" y="5734080"/>
          <a:ext cx="4649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649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ambor, en rph,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162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90840" cy="90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08608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9640" y="4538520"/>
            <a:ext cx="81536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guest</cp:lastModifiedBy>
  <dcterms:modified xsi:type="dcterms:W3CDTF">2007-08-07T17:21:11Z</dcterms:modified>
  <cp:revision>108</cp:revision>
  <dc:subject/>
  <dc:title>Separación Sólido-Líquido</dc:title>
</cp:coreProperties>
</file>