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7EB4-9B15-4FB5-BD11-1EB236D1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B74E-D222-4233-8C90-CD69C07D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478-FDBC-4678-B138-FD7FE845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983B-4653-462B-8A6C-AD96782B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55F4-BB3B-473A-BDC7-379DC3BC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868C-8F01-4963-B6D9-3560079A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D992-2B68-4CBF-B3B3-D7CEDDE7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254-6EAF-4B5F-A350-1C962555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E9A-8B52-4EEE-B24B-4B2B6EB9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D3C-DD57-4DEE-A169-A857AE38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677-0B30-4073-9A8C-66D59444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6C8-8E31-4933-A42C-7105FC4A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D176-FCCF-460A-99B8-D735626BF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www.diq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822960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ordova, Ariel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o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36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 </a:t>
            </a:r>
            <a:br>
              <a:rPr sz="2400"/>
            </a:br>
            <a:br>
              <a:rPr sz="2400"/>
            </a:b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3 de Agost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minetti Allende, Ornell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mparación teórica de las capacidades metabólicas de Saccharomyces cerevisiae y Pichia pastoris para la producción de S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J.Asenjo-A. Maass-Z.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GERDTZEN- B.Andr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a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0 de Agost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6 de Septiem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ordova, Ariel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o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minetti Allende, Ornell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mparación teórica de las capacidades metabólicas de Saccharomyces cerevisiae y Pichia pastoris para la producción de S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J.Asenjo-A. Maass-Z.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GERDTZEN- B.Andr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a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</cp:lastModifiedBy>
  <dcterms:modified xsi:type="dcterms:W3CDTF">2007-08-02T01:58:34Z</dcterms:modified>
  <cp:revision>140</cp:revision>
  <dc:subject/>
  <dc:title>El ingeniero, etica y sociedad</dc:title>
</cp:coreProperties>
</file>