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717F-03F4-4EC2-BEFD-88573BB5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BE6-7977-4E17-B5BF-EEEB1BE1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EE1-AF32-49C4-AE0A-6E920080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736C-7C18-4E1B-B1E3-43FF54DB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AEE8-24FC-406C-ACC9-3649EB10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DB77-F7F1-4705-A0C1-05DA6881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73D0-3BA6-47FF-A312-110C2145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F133-44A3-432B-8DA5-AA7FF1D2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0725-5556-4430-9E3A-12A8650C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664D-144B-48E4-AF65-20B8D3E7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1476-0A74-4478-A869-11EC52EA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803-28CF-4074-9753-4BCB93E4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F143-9ED2-4CDD-B4C6-B2289647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6370-6D7E-45F0-A97D-ED4C1764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62D6-EB86-44AD-B66D-A33BF631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324A-BB83-44E7-928B-BD2480B5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3C89-D72F-477F-BBBE-6A97187C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1777EA-6875-4397-8756-60B10E67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4CFB3-9B19-4FEA-B1E3-C18D93DD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66B40-6F51-4858-8CEB-4E22C851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33F46-EC67-4F21-AAFF-F880FCCE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E3F48-EDE1-4E79-A276-5A7EC2F5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3890-C892-40D1-8526-78720F5C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5B251-D75F-4358-9867-981742C7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57109-D846-4D60-BA26-663C4A19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64EDC-01B1-485A-B866-880E71F1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2AF45-A427-4941-A80A-3B72813A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7F7D2-74DF-414E-BFDE-39590C16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67BB5-301A-41CB-81CB-3E4E9A3A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AFF6F-310D-42CD-958C-349D53D0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DE740-9006-443C-97D3-77CC43C3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AB830-3023-4A2E-B5ED-B4065E09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445E2-FD4B-448D-839C-98049450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4B13-9B02-478A-A8D0-D3EA9DFB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A000C-45F9-445D-AB17-35AAA869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F67A3-2637-4FA8-A8C8-092716BD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0926D-CB01-470D-9515-88E5F236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74CE0-CC06-459F-85D2-A41317B5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C77B2-1573-4F9F-AAA9-6E6C08B3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D361A-81DD-434A-B546-198ED4A0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7E1A5-0E0A-47D6-AAC0-DBBE6FA7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4BEB6-B904-4705-A085-27E554F4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0E2E7-1EC5-4D1A-9CCB-9E9A09FB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95C7-A087-42B6-B2DA-5585AD73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C95-43AE-48DD-916B-F71ECFC6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E498-2153-4EE8-99E9-BD4932D5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3C8C-CA6B-4089-9FEC-EE594287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969-84E7-4EF7-B03E-1CF34AB0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0637-7A68-4096-84FA-637A92462A92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23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24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25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26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40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41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42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43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44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BA38-5C00-4C6E-BC71-E3AFD90755EE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0634-D33A-438C-AB26-2FE08B7B42EB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5892-A5EF-4EE7-B171-0DAB88CC0131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rebuchet MS"/>
              </a:rPr>
              <a:t>IQ53D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Trebuchet MS"/>
              </a:rPr>
              <a:t>Laboratorio de Ingeniería Química 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24456"/>
                </a:solidFill>
                <a:latin typeface="Georgia"/>
              </a:rPr>
              <a:t>Columna de Intercambio Iónico (IX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Equipos Real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5" name="Picture 2" descr="http://www.poweronline.com/crlive/files/Images/2af161fd-71ba-4bbe-8c4d-e3c9b9fc4264/DEIONIZATIOn.gif"/>
          <p:cNvPicPr/>
          <p:nvPr/>
        </p:nvPicPr>
        <p:blipFill>
          <a:blip r:embed="rId1"/>
          <a:stretch/>
        </p:blipFill>
        <p:spPr>
          <a:xfrm>
            <a:off x="1571760" y="2071800"/>
            <a:ext cx="592920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rebuchet MS"/>
              </a:rPr>
              <a:t>Fin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24456"/>
                </a:solidFill>
                <a:latin typeface="Georgia"/>
              </a:rPr>
              <a:t>Gracias por su atenció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Objetivo de la experienc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Realizar estudios relacionados con la eficiencia y el comportamiento de un equipo de Intercambio Iónico, diseñado para el ablandamiento de agu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Equipo de Trabajo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1357200" y="2214720"/>
            <a:ext cx="63770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Equipo de Trabajo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2643120" y="2357280"/>
            <a:ext cx="30006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Base Teórica de la Experienc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Intercambio Iónico (IX): Operación de contacto sólido-líquido donde el sólido es el intercambiador iónico y el líquido es la sustancia que se desea trata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Está gobernado por la adsorción de iones desde la solución líquida hacia la superficie del sólid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Según el tipo de ión adsorbido, el sólido se define como catiónico o aniónic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Base Teórica de la Experiencia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Ablandamiento de Agua (Water Softening): Proceso que consiste en retirar los responsables de la “dureza” en el agu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Donde R representa la resina catiónica que se utiliza para el proces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26" name="Object 2"/>
          <p:cNvGraphicFramePr/>
          <p:nvPr/>
        </p:nvGraphicFramePr>
        <p:xfrm>
          <a:off x="1000080" y="3786120"/>
          <a:ext cx="685800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3786120"/>
                    <a:ext cx="68580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Base Teórica de la Experienc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643040" y="2286000"/>
            <a:ext cx="5643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Base Teórica de la Experienc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1" name="Picture 46" descr="untitled"/>
          <p:cNvPicPr/>
          <p:nvPr/>
        </p:nvPicPr>
        <p:blipFill>
          <a:blip r:embed="rId1"/>
          <a:stretch/>
        </p:blipFill>
        <p:spPr>
          <a:xfrm>
            <a:off x="1042920" y="2214720"/>
            <a:ext cx="667224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Equipos Real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3" name="Picture 2" descr="http://www.aguamarket.com/sql/imagenes/ablandador_a.jpg"/>
          <p:cNvPicPr/>
          <p:nvPr/>
        </p:nvPicPr>
        <p:blipFill>
          <a:blip r:embed="rId1"/>
          <a:stretch/>
        </p:blipFill>
        <p:spPr>
          <a:xfrm>
            <a:off x="2857680" y="2428920"/>
            <a:ext cx="3111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6:58:52Z</dcterms:created>
  <dc:creator>Andrés Roque</dc:creator>
  <dc:description/>
  <dc:language>en-US</dc:language>
  <cp:lastModifiedBy>Andrés Roque</cp:lastModifiedBy>
  <dcterms:modified xsi:type="dcterms:W3CDTF">2007-08-08T17:35:49Z</dcterms:modified>
  <cp:revision>6</cp:revision>
  <dc:subject/>
  <dc:title>IQ53D Laboratorio de Ingeniería Química II</dc:title>
</cp:coreProperties>
</file>