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6A2-720F-4994-B8B9-8B6F0596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C1D-C9FA-4E96-ADC3-986375DD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C97-F24F-49A8-B175-F3A815BF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7E4-0499-43FE-A5E3-9DE73223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1DE0-1360-4723-8C81-8C8834F7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60DC-E87C-40E5-9614-3F3AD040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E701-70A1-4490-A9B7-1A02A921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9DB8-79CC-44E7-A3FF-F10F581D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AD79-6F2E-4AC9-93C5-3F3D9C95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7B17-1B0C-4E65-A513-1260E553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32D9-CFE8-4BF4-9D32-936B61C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B5F-D3C6-4E08-8C26-88671922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DA18-B745-4B6B-A483-0F8CAEF7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6B02-0AAD-4613-92C3-7D94E875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6965-EE44-4629-8024-F4FF725F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24A9-1453-496B-8509-858A112A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C722-B633-472A-BDCD-BB056E9B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AD0D3-316B-42D8-850E-9106E7B3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A3218-F274-49DB-9B60-DE01FC5C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F0D00-C216-47A2-B671-20C85EA4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1A9D7-083B-4615-801F-D9A7A7DA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F1DC2-A7D4-429B-A13B-DA0A0D35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519-B830-4225-89AA-263D6F54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8891E-EE0B-49D3-BB63-50088218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3FC25-2A89-4FC2-A2EB-2D897E91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75740-E30E-4E81-B3A3-6B5B1F97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C060F-3738-4620-94CB-B33D2D6E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FA374-D2CE-425F-9DD5-85A941FF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A9EF5-2DAF-40E1-A845-E4C77298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5908D-A18F-46BC-B511-96650035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DC41-BC95-410C-B30D-7C8F121E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BB9C-AC7F-4BCD-BE3A-5FF7EF8D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34DFB-BFDD-4381-AABC-7D531FF1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347-A4A8-4765-AEA5-9E856B9B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F46DB-D7B0-4A5A-A56F-7B7090E4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887DA-A1BB-4C8D-BE84-D54B4F2C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B3AF-BD55-4A51-82BA-BA2F0F3D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0125-005D-4DF3-BD4F-1F907B2F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2F82-E367-454B-A98B-07FB3625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5A5DC-FDF8-445A-B124-1D29C658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AE42-BCC9-4A72-A468-EBB1F238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BAAD4-4C3F-433D-BCDE-C7581262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4CCA8-E0BA-4434-AFDF-B45EFD28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092-93BD-40A2-A07B-2B6AD1E1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E1E-9CC7-4570-A496-5DB5A412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EA2-B144-4D1D-A7E5-DF102159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873-B36E-4F48-8CE7-74A9CFE2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32D-E852-4ADA-AA6D-1966012F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025D-B682-4430-B5F9-D24DEF38B201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7454-A08C-49ED-8CE6-E639A9B7180E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6B25-52DC-4661-A0F6-B5BB055FB46F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CBA6-74CE-4CE2-9BFD-AE7396ACD290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IQ53D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Laboratorio de Ingeniería Química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24456"/>
                </a:solidFill>
                <a:latin typeface="Georgia"/>
              </a:rPr>
              <a:t>Columna de Intercambio Iónico (IX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s Rea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http://www.poweronline.com/crlive/files/Images/2af161fd-71ba-4bbe-8c4d-e3c9b9fc4264/DEIONIZATIOn.gif"/>
          <p:cNvPicPr/>
          <p:nvPr/>
        </p:nvPicPr>
        <p:blipFill>
          <a:blip r:embed="rId1"/>
          <a:stretch/>
        </p:blipFill>
        <p:spPr>
          <a:xfrm>
            <a:off x="1571760" y="2071800"/>
            <a:ext cx="59292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rebuchet MS"/>
              </a:rPr>
              <a:t>Fin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24456"/>
                </a:solidFill>
                <a:latin typeface="Georgia"/>
              </a:rPr>
              <a:t>Gracias por su aten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Objetivo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Realizar estudios relacionados con la eficiencia y el comportamiento de un equipo de Intercambio Iónico, diseñado para el ablandamiento de agu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 de Trabaj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357200" y="2214720"/>
            <a:ext cx="6377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 de Trabaj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643120" y="2357280"/>
            <a:ext cx="30006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ntercambio Iónico (IX): Operación de contacto sólido-líquido donde el sólido es el intercambiador iónico y el líquido es la sustancia que se desea trat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Está gobernado por la adsorción de iones desde la solución líquida hacia la superficie del sólid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Según el tipo de ión adsorbido, el sólido se define como catiónico o aniónic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Ablandamiento de Agua (Water Softening): Proceso que consiste en retirar los responsables de la “dureza” en el agu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onde R representa la resina catiónica que se utiliza para el proces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1000080" y="3786120"/>
          <a:ext cx="68580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786120"/>
                    <a:ext cx="6858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643040" y="2286000"/>
            <a:ext cx="5643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46" descr="untitled"/>
          <p:cNvPicPr/>
          <p:nvPr/>
        </p:nvPicPr>
        <p:blipFill>
          <a:blip r:embed="rId1"/>
          <a:stretch/>
        </p:blipFill>
        <p:spPr>
          <a:xfrm>
            <a:off x="1042920" y="2214720"/>
            <a:ext cx="66722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s Rea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Picture 2" descr="http://www.aguamarket.com/sql/imagenes/ablandador_a.jpg"/>
          <p:cNvPicPr/>
          <p:nvPr/>
        </p:nvPicPr>
        <p:blipFill>
          <a:blip r:embed="rId1"/>
          <a:stretch/>
        </p:blipFill>
        <p:spPr>
          <a:xfrm>
            <a:off x="2857680" y="2428920"/>
            <a:ext cx="311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6:58:52Z</dcterms:created>
  <dc:creator>Andrés Roque</dc:creator>
  <dc:description/>
  <dc:language>en-US</dc:language>
  <cp:lastModifiedBy>Andrés Roque</cp:lastModifiedBy>
  <dcterms:modified xsi:type="dcterms:W3CDTF">2007-08-08T17:35:49Z</dcterms:modified>
  <cp:revision>6</cp:revision>
  <dc:subject/>
  <dc:title>IQ53D Laboratorio de Ingeniería Química II</dc:title>
</cp:coreProperties>
</file>