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0635-60C6-4BDE-9780-3EC4EFB7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67D-5FAD-4F3D-958C-103A0426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07E9-018F-4D03-9649-5B1C9795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219-50A5-49E2-9AD0-79F49646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0F12-6E34-4B9D-A41D-10020027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A72C-922D-4152-913F-B01BB2FE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A1EE-719E-4854-A753-50AA9B4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E2B8-D192-4CF2-8965-308DC385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D5A5-5B8B-4188-856F-4BEFF4EC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16DF-522E-4DBA-8157-E756BEED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D9A-7E11-4FBC-8891-3F2DBED5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500-92B7-4FE5-A397-15F2AFE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FC26-F996-489A-8A0C-A1196300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EC34-8810-411B-9640-0E530634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C724-2692-4B08-B08B-C5B2E521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9ECE-AE47-4295-9D89-DB23C58D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D72D-6C50-47FA-A0E0-928DA7A6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BDE3F4-C3EF-47ED-877C-CC98154E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17252-003F-4B85-900B-F07BFB40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A6DCF-073F-4E38-8069-780B9618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40E31-C0BD-4072-9827-AC99CA52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54EDA-D13D-47ED-A822-43183270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21F-C248-4907-B3F0-80A8F9FF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A749A-3DDF-419B-BF18-B957609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D8AEF-360A-47FF-9EDD-5F262A6B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D74DF-EC21-4044-A59B-5517D003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0C768-2F8B-4B08-9A34-7D430BE5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400AA-C8CF-480F-B54C-FDBEDAA9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F340E-1366-4894-8D0E-D0713F9F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A51D62-7EE5-4AD1-8C07-9751EFE0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E1A9-E5D1-407D-988E-A2355A50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5D59A-C3A9-4F0F-AB7A-36160359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CCFF9-A7E0-40DE-9F8B-03ADC649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5B5-841F-4938-B60C-64417124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B8D67-7337-434E-A915-564EF19B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0C95-83EF-49D3-B285-58FF8D3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C74FE-CC3F-48DB-9A80-EB13665E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0566B-CBAA-4EA4-B54C-B6BB9C9F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7BBA-9DD0-47F1-9C49-4F950201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6134E-C07C-4FAD-8245-479CDBF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B5663-23C2-4F31-A23B-ACD2A952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D41D2-DA1A-441A-8AB1-64E7E0A4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24566-1754-4EC8-A52A-E0EDB3F1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E9B-AD2C-4E5B-B75F-5108986E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BD6-1C14-4A4C-9B6C-B5B13E91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242C-0A41-4BE1-925A-DB73B1B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83F8-B899-49C0-AFEB-3BB73A6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C951-0B10-461F-B4CE-0974FEB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3B7-B764-45FE-803B-364B5DBD501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10D5-90BE-417E-B7C0-702CECAE755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4DB9-1F12-4DC2-9FA6-5BDCB52D8C9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2A1-1A4E-4E99-9366-74978C0FC7F8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IQ53D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Trebuchet MS"/>
              </a:rPr>
              <a:t>Laboratorio de Ingeniería Química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Columna de Intercambio Iónico (IX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http://www.poweronline.com/crlive/files/Images/2af161fd-71ba-4bbe-8c4d-e3c9b9fc4264/DEIONIZATIOn.gif"/>
          <p:cNvPicPr/>
          <p:nvPr/>
        </p:nvPicPr>
        <p:blipFill>
          <a:blip r:embed="rId1"/>
          <a:stretch/>
        </p:blipFill>
        <p:spPr>
          <a:xfrm>
            <a:off x="1571760" y="2071800"/>
            <a:ext cx="592920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rebuchet MS"/>
              </a:rPr>
              <a:t>Fin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24456"/>
                </a:solidFill>
                <a:latin typeface="Georgia"/>
              </a:rPr>
              <a:t>Gracias por su atenció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Objetivo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Realizar estudios relacionados con la eficiencia y el comportamiento de un equipo de Intercambio Iónico, diseñado para el ablandamiento de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3770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 de Trabajo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643120" y="2357280"/>
            <a:ext cx="30006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ntercambio Iónico (IX): Operación de contacto sólido-líquido donde el sólido es el intercambiador iónico y el líquido es la sustancia que se desea trata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Está gobernado por la adsorción de iones desde la solución líquida hacia la superficie del sóli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Según el tipo de ión adsorbido, el sólido se define como catiónico o aniónic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Ablandamiento de Agua (Water Softening): Proceso que consiste en retirar los responsables de la “dureza” en el agu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onde R representa la resina catiónica que se utiliza para el proces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1000080" y="3786120"/>
          <a:ext cx="685800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786120"/>
                    <a:ext cx="685800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43040" y="2286000"/>
            <a:ext cx="56437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Base Teórica de la Experienc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46" descr="untitled"/>
          <p:cNvPicPr/>
          <p:nvPr/>
        </p:nvPicPr>
        <p:blipFill>
          <a:blip r:embed="rId1"/>
          <a:stretch/>
        </p:blipFill>
        <p:spPr>
          <a:xfrm>
            <a:off x="1042920" y="2214720"/>
            <a:ext cx="667224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24456"/>
                </a:solidFill>
                <a:latin typeface="Trebuchet MS"/>
              </a:rPr>
              <a:t>Equipos Rea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http://www.aguamarket.com/sql/imagenes/ablandador_a.jpg"/>
          <p:cNvPicPr/>
          <p:nvPr/>
        </p:nvPicPr>
        <p:blipFill>
          <a:blip r:embed="rId1"/>
          <a:stretch/>
        </p:blipFill>
        <p:spPr>
          <a:xfrm>
            <a:off x="2857680" y="2428920"/>
            <a:ext cx="31114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16:58:52Z</dcterms:created>
  <dc:creator>Andrés Roque</dc:creator>
  <dc:description/>
  <dc:language>en-US</dc:language>
  <cp:lastModifiedBy>Andrés Roque</cp:lastModifiedBy>
  <dcterms:modified xsi:type="dcterms:W3CDTF">2007-08-08T17:35:49Z</dcterms:modified>
  <cp:revision>6</cp:revision>
  <dc:subject/>
  <dc:title>IQ53D Laboratorio de Ingeniería Química II</dc:title>
</cp:coreProperties>
</file>