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C93-2563-4D07-ADFA-82C738CC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431-52FF-49B0-B513-24692EC2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28C-536B-4CE4-A14B-663297B8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CCCD-9500-4A00-93BF-7D457ECC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2432-EC3F-45F7-9FCE-D20B76BA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19C2-9401-43CD-9E56-FBB84618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F59F-A393-4516-9864-DB479C8F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7FE5-9ECA-4839-A6B6-35B4561C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B4E2-EE18-4B62-9A01-C94D6ACA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A067-7AB8-4638-8990-F2EE5580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DC9C-A63D-4821-9FEE-99790A21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01D-7C35-4DB1-8ACB-5C26E613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C7C6-B2CE-4B60-8D37-742C7999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8AC0-8911-4829-A8B0-87A8B317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4264-11C9-46A5-8230-83CB7F88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00D0-42D1-48F5-A401-B3F5FFF1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9560-5532-4047-8679-A06AE4EA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A4BC7-E418-4609-B8B2-DDC97D74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77BAC6-7AB3-4A7E-AAC8-9AD1AE9C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02593-F4C8-4031-8C84-650C5462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A6864-25EA-4C7A-8853-61FFFA5E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D2EDD-3AAB-4A27-A883-5B5CFDA8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0150-32A0-4650-8D67-6835937A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9ED47-073D-4705-BF0F-AD856810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F7C319-A645-4778-BB92-8B794E5F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4905C-CC8D-48DA-AFC5-ACE5BC34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B807F-33AA-4243-9AA4-2CD4CCB1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B250B-2454-4B2F-80F8-229D40E8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E3510-F8AC-45F5-8221-7B411B5E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6C6AF-7366-42D0-8BE4-C6D2FDA2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37CDE-1499-44AA-8581-6F5F79A2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55CE2-CDFF-4503-8677-42FBE07A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33831-E1ED-48C1-93C1-85FD1AE8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111-EE2D-4F9C-845E-7B449AAF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DE671-D8BE-4113-916A-8AACFC2C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8976D-8CE8-42A7-AECA-AF2963B5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CB5C2-C29B-4FC5-A056-9140D786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D2FC7-1D58-489D-999F-6326D4AD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427F9-DD43-4C0F-B534-C5D895DF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0BA87-6E11-4AA5-8359-CC3C506E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0F8BD-462A-4889-997F-2F3F6866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03474-2630-431C-9DB4-2A4C0809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37452-F8A5-4C35-9AAA-7492FEFB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43D-0F65-4D23-894F-0E9DD070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B4E-0D29-4E17-97B6-5C6321BC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B90-5E1B-4F8A-85E4-63F256B3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6D5-B5B8-4260-B83F-4F31236F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E0A-FE33-4F72-BAFC-C891C2FE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48CC-3CF1-4256-8B1F-7AA0C13DE5B5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3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4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5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26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40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41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42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43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44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47E2-DD89-4854-B878-74F7EA5342DC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5EFF-7E4E-42E6-B959-3DA9993DED53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8505-005D-4FD3-AC15-10B243BD6FBB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rebuchet MS"/>
              </a:rPr>
              <a:t>IQ53D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Trebuchet MS"/>
              </a:rPr>
              <a:t>Laboratorio de Ingeniería Química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24456"/>
                </a:solidFill>
                <a:latin typeface="Georgia"/>
              </a:rPr>
              <a:t>Columna de Intercambio Iónico (IX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Equipos Real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Picture 2" descr="http://www.poweronline.com/crlive/files/Images/2af161fd-71ba-4bbe-8c4d-e3c9b9fc4264/DEIONIZATIOn.gif"/>
          <p:cNvPicPr/>
          <p:nvPr/>
        </p:nvPicPr>
        <p:blipFill>
          <a:blip r:embed="rId1"/>
          <a:stretch/>
        </p:blipFill>
        <p:spPr>
          <a:xfrm>
            <a:off x="1571760" y="2071800"/>
            <a:ext cx="59292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rebuchet MS"/>
              </a:rPr>
              <a:t>Fin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24456"/>
                </a:solidFill>
                <a:latin typeface="Georgia"/>
              </a:rPr>
              <a:t>Gracias por su atenc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Objetivo de la experienc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Realizar estudios relacionados con la eficiencia y el comportamiento de un equipo de Intercambio Iónico, diseñado para el ablandamiento de agu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Equipo de Trabajo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357200" y="2214720"/>
            <a:ext cx="63770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Equipo de Trabajo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2643120" y="2357280"/>
            <a:ext cx="30006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Base Teórica de la Experienc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Intercambio Iónico (IX): Operación de contacto sólido-líquido donde el sólido es el intercambiador iónico y el líquido es la sustancia que se desea trata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Está gobernado por la adsorción de iones desde la solución líquida hacia la superficie del sólid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Según el tipo de ión adsorbido, el sólido se define como catiónico o aniónic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Base Teórica de la Experiencia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Ablandamiento de Agua (Water Softening): Proceso que consiste en retirar los responsables de la “dureza” en el agu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Donde R representa la resina catiónica que se utiliza para el proces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26" name="Object 2"/>
          <p:cNvGraphicFramePr/>
          <p:nvPr/>
        </p:nvGraphicFramePr>
        <p:xfrm>
          <a:off x="1000080" y="3786120"/>
          <a:ext cx="685800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3786120"/>
                    <a:ext cx="68580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Base Teórica de la Experienc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643040" y="2286000"/>
            <a:ext cx="5643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Base Teórica de la Experienc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1" name="Picture 46" descr="untitled"/>
          <p:cNvPicPr/>
          <p:nvPr/>
        </p:nvPicPr>
        <p:blipFill>
          <a:blip r:embed="rId1"/>
          <a:stretch/>
        </p:blipFill>
        <p:spPr>
          <a:xfrm>
            <a:off x="1042920" y="2214720"/>
            <a:ext cx="667224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Equipos Real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3" name="Picture 2" descr="http://www.aguamarket.com/sql/imagenes/ablandador_a.jpg"/>
          <p:cNvPicPr/>
          <p:nvPr/>
        </p:nvPicPr>
        <p:blipFill>
          <a:blip r:embed="rId1"/>
          <a:stretch/>
        </p:blipFill>
        <p:spPr>
          <a:xfrm>
            <a:off x="2857680" y="2428920"/>
            <a:ext cx="3111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6:58:52Z</dcterms:created>
  <dc:creator>Andrés Roque</dc:creator>
  <dc:description/>
  <dc:language>en-US</dc:language>
  <cp:lastModifiedBy>Andrés Roque</cp:lastModifiedBy>
  <dcterms:modified xsi:type="dcterms:W3CDTF">2007-08-08T17:35:49Z</dcterms:modified>
  <cp:revision>6</cp:revision>
  <dc:subject/>
  <dc:title>IQ53D Laboratorio de Ingeniería Química II</dc:title>
</cp:coreProperties>
</file>