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2BBC-7967-40B9-8631-62CC70615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BA8D-05EE-412B-94F6-D960810E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795E-8558-43DB-A9C4-F287D200D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B5A7-42E9-4B04-A03C-1C3B1978E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57A0-0D62-43EA-BB60-46125BB2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9721-5809-4F46-B449-3412B6EC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9852-8A6C-4041-A89B-6B1B7FD9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CD48-62E6-41C4-92C7-62B2C241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524D-F88F-467D-9AF1-A42B4608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9C73-B792-412B-AE72-F1A4FCF4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6D9F-51C7-49BA-BC16-1DF24B3B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CF7E-24DB-4FB8-B785-071F677A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8D30-8282-43B2-9759-1D7629CE5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95280" y="333360"/>
            <a:ext cx="971640" cy="2093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03280" y="549360"/>
            <a:ext cx="4751280" cy="8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partamento de Ingeniería Civil Química y Bio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Q53D Laboratorio de Ingeniería Químic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557360"/>
            <a:ext cx="8351640" cy="42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800" spc="-1" strike="noStrike">
                <a:solidFill>
                  <a:srgbClr val="000000"/>
                </a:solidFill>
                <a:latin typeface="Arial"/>
              </a:rPr>
              <a:t>Torre de Enfriamien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4221000"/>
            <a:ext cx="799128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108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6624720" cy="54738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emás se dispone de termocuplas a la entrada y a la salida de la columna para medir la temperatura del agua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24000" y="333360"/>
            <a:ext cx="971280" cy="2093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6624720" cy="12970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ibración de las placas orifi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24000" y="333360"/>
            <a:ext cx="971280" cy="20937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03280" y="213372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1) Aire: Q (m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/hr) = 3.01 ×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</a:rPr>
              <a:t>0.49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 (cm. CCl4 ), a 18º 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6360" y="4076640"/>
            <a:ext cx="70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2) Agua: Q (L/min.) = 1.04 ×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</a:rPr>
              <a:t>0.51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 (cm. Hg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771640" y="0"/>
            <a:ext cx="5832720" cy="6858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3132000" y="3860640"/>
            <a:ext cx="936720" cy="649440"/>
          </a:xfrm>
          <a:prstGeom prst="ellipse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8360" y="3789360"/>
            <a:ext cx="936720" cy="649440"/>
          </a:xfrm>
          <a:prstGeom prst="ellipse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56000" y="1268280"/>
            <a:ext cx="936720" cy="7207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88000" y="1197000"/>
            <a:ext cx="936360" cy="7207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2133720"/>
            <a:ext cx="935280" cy="649080"/>
          </a:xfrm>
          <a:prstGeom prst="ellipse">
            <a:avLst/>
          </a:prstGeom>
          <a:noFill/>
          <a:ln w="255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80000" y="4724280"/>
            <a:ext cx="935280" cy="648000"/>
          </a:xfrm>
          <a:prstGeom prst="ellipse">
            <a:avLst/>
          </a:prstGeom>
          <a:noFill/>
          <a:ln w="255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77080" y="3573360"/>
            <a:ext cx="1008000" cy="1295640"/>
          </a:xfrm>
          <a:prstGeom prst="ellipse">
            <a:avLst/>
          </a:prstGeom>
          <a:noFill/>
          <a:ln w="25560">
            <a:solidFill>
              <a:srgbClr val="99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427640" y="4797360"/>
            <a:ext cx="1079280" cy="1224000"/>
          </a:xfrm>
          <a:prstGeom prst="ellipse">
            <a:avLst/>
          </a:prstGeom>
          <a:noFill/>
          <a:ln w="25560">
            <a:solidFill>
              <a:srgbClr val="99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324000" y="333360"/>
            <a:ext cx="971280" cy="209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Impact"/>
              </a:rPr>
              <a:t>Base teórica: Balances de Masa y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132000" y="1989000"/>
                <a:ext cx="327996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132000" y="2781360"/>
                <a:ext cx="24814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141720" y="4664160"/>
                <a:ext cx="532908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143160" y="3860640"/>
                <a:ext cx="36734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2124000" y="2076480"/>
            <a:ext cx="647640" cy="1496880"/>
          </a:xfrm>
          <a:custGeom>
            <a:avLst/>
            <a:gdLst>
              <a:gd name="textAreaLeft" fmla="*/ 414000 w 647640"/>
              <a:gd name="textAreaRight" fmla="*/ 648000 w 647640"/>
              <a:gd name="textAreaTop" fmla="*/ 38880 h 1496880"/>
              <a:gd name="textAreaBottom" fmla="*/ 1458000 h 14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2206800"/>
            <a:ext cx="15825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46320" y="3871800"/>
            <a:ext cx="625320" cy="1440000"/>
          </a:xfrm>
          <a:custGeom>
            <a:avLst/>
            <a:gdLst>
              <a:gd name="textAreaLeft" fmla="*/ 399600 w 625320"/>
              <a:gd name="textAreaRight" fmla="*/ 625680 w 62532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3975120"/>
            <a:ext cx="15825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er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24000" y="0"/>
            <a:ext cx="971280" cy="2093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132000" y="0"/>
            <a:ext cx="4781520" cy="6597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539640" y="260280"/>
            <a:ext cx="971640" cy="20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5092920" cy="3827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324000" y="260280"/>
            <a:ext cx="971280" cy="2094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68360" y="1989000"/>
            <a:ext cx="5851800" cy="3121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68360" y="333360"/>
            <a:ext cx="971640" cy="2093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468360" y="333360"/>
            <a:ext cx="971640" cy="2093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995640" y="981000"/>
            <a:ext cx="38433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468360" y="333360"/>
            <a:ext cx="971640" cy="2093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708360" y="404640"/>
            <a:ext cx="381780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763280" y="333360"/>
            <a:ext cx="6985080" cy="65246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IBLIOGRAF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eybal, R.E.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Operaciones de Transferencia de Masa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ª edición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 Graw Hill. México, 198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Ketta, R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ncyclopedia of Chemical Processing &amp; Design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el Dekker In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. 11. New York, 19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ust, A.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Principios de Operaciones Unitarias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ª edición. C.E.C.S.A. México, 196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ry, R. &amp; Green, D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ry’s ChemicalEngineer’sHandbook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ª edi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 Graw Hill. NewYork, 198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5">
            <a:alphaModFix amt="0"/>
          </a:blip>
          <a:stretch/>
        </p:blipFill>
        <p:spPr>
          <a:xfrm>
            <a:off x="250920" y="260280"/>
            <a:ext cx="971280" cy="2094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95280" y="223560"/>
            <a:ext cx="6948360" cy="62132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as operaciones más sencilla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n las que se presenta una transferencia simultánea de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asa y calor son la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humidificació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y la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deshumidificación.</a:t>
            </a:r>
            <a:br>
              <a:rPr sz="3400"/>
            </a:br>
            <a:br>
              <a:rPr sz="32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611280" y="260280"/>
            <a:ext cx="971280" cy="2094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00000" y="5734080"/>
            <a:ext cx="7993080" cy="3589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82560" y="259920"/>
            <a:ext cx="7561440" cy="62643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icar los balances de masa y de energía en una torre de enfria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r las variables que afectan su ope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nder el proceso de enfriamiento como una transferencia simultánea de masa y de cal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50920" y="333360"/>
            <a:ext cx="971280" cy="2093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00000" y="623736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050560" y="476280"/>
            <a:ext cx="6566040" cy="5649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 estas operaciones está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volucradas dos fases y dos componentes: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a fase líquid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agua generalmente) y una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s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aseos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ompuesta por un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50920" y="260280"/>
            <a:ext cx="971280" cy="2094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00000" y="5734080"/>
            <a:ext cx="7993080" cy="3589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95640" y="476280"/>
            <a:ext cx="6408720" cy="56894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o se logra mediante el contacto directo con aire, el cual se encuentra a una temperatura menor que el agua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24000" y="0"/>
            <a:ext cx="971280" cy="2093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00000" y="5734080"/>
            <a:ext cx="7993080" cy="3589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476360" y="260280"/>
            <a:ext cx="7416720" cy="63374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 equipo corresponde a una columna rellena cilíndrica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 altura del relleno es 40" y el diámetro de la columna es 6"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50920" y="0"/>
            <a:ext cx="971280" cy="2093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00000" y="5734080"/>
            <a:ext cx="7993080" cy="3589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63280" y="333360"/>
            <a:ext cx="7056360" cy="65246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l relleno corresponde a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nillos Rasching de 3/4"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(cilindros huecos de vidrio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5734080"/>
            <a:ext cx="7993080" cy="3589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468360" y="260280"/>
            <a:ext cx="971640" cy="209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7273800" cy="62643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El circuito de agua esta constituido por un estanque termostatizado, una bomba centrífuga, tuberías de cobre de 3/4", una manguera de retorno de líquido al estanque, una placa orificio (conectada a un manómetro de Hg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24000" y="333360"/>
            <a:ext cx="971280" cy="2093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7056360" cy="54738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l circuito de aire está conformado por un compresor, tuberías de cobre de 3/4", una placa orificio (conectada a un manómetro de CCl</a:t>
            </a:r>
            <a:r>
              <a:rPr b="0" lang="es-E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) y dos pares de termocuplas, a la entrada y salida del aire de la tor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24000" y="333360"/>
            <a:ext cx="971280" cy="2093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8T20:03:50Z</dcterms:created>
  <dc:creator>georgette</dc:creator>
  <dc:description/>
  <dc:language>en-US</dc:language>
  <cp:lastModifiedBy>georgette</cp:lastModifiedBy>
  <dcterms:modified xsi:type="dcterms:W3CDTF">2007-08-07T00:08:29Z</dcterms:modified>
  <cp:revision>14</cp:revision>
  <dc:subject/>
  <dc:title>Esta experiencia está diseñada para poder estudiar los fenómenos de transferencia simultánea de calor y materia que ocurren durante una operación de humidificación de aire utilizando agua caliente.</dc:title>
</cp:coreProperties>
</file>