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CA0-82A7-4FE2-B01B-0819DFB9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5EE-9D13-41EA-990C-1D0B8840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CDC-2DE4-40E2-9960-72638207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0A5-AA1E-4515-971F-72FE4672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DC3-47C9-4313-90FA-1D5FDFE3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96C-458E-4A17-ABD3-6BA3E987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25F-A783-4E60-9420-AFC451C7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44D-2DE4-46A0-A61A-FAF50ED0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E86-3D97-4732-A236-3A742F91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E2E-48FC-444F-A673-85C28EAC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3D7-4142-431D-AE6C-9E5FBC0C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872-C6D1-4859-8C58-C8F7F303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FFE1-7B65-4876-A3F1-AA2725B5F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528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549360"/>
            <a:ext cx="4751280" cy="8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artamento de Ingeniería Civil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Q53D Laboratorio de Ingeniería Químic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35164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800" spc="-1" strike="noStrike">
                <a:solidFill>
                  <a:srgbClr val="000000"/>
                </a:solidFill>
                <a:latin typeface="Arial"/>
              </a:rPr>
              <a:t>Torre de Enfria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7991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24720" cy="547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emás se dispone de termocuplas a la entrada y a la salida de la columna para medir la temperatura del agu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24720" cy="1297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ción de las placas ori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21337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) Aire: Q (m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/hr) = 3.01 ×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0.49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CCl4 ), a 18º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4076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) Agua: Q (L/min.) = 1.04 ×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0.51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H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583272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132000" y="3860640"/>
            <a:ext cx="936720" cy="64944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3789360"/>
            <a:ext cx="936720" cy="64944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1268280"/>
            <a:ext cx="936720" cy="72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1197000"/>
            <a:ext cx="936360" cy="72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133720"/>
            <a:ext cx="935280" cy="649080"/>
          </a:xfrm>
          <a:prstGeom prst="ellipse">
            <a:avLst/>
          </a:prstGeom>
          <a:noFill/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4724280"/>
            <a:ext cx="935280" cy="648000"/>
          </a:xfrm>
          <a:prstGeom prst="ellipse">
            <a:avLst/>
          </a:prstGeom>
          <a:noFill/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7080" y="3573360"/>
            <a:ext cx="1008000" cy="1295640"/>
          </a:xfrm>
          <a:prstGeom prst="ellipse">
            <a:avLst/>
          </a:prstGeom>
          <a:noFill/>
          <a:ln w="255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27640" y="4797360"/>
            <a:ext cx="1079280" cy="1224000"/>
          </a:xfrm>
          <a:prstGeom prst="ellipse">
            <a:avLst/>
          </a:prstGeom>
          <a:noFill/>
          <a:ln w="255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Impact"/>
              </a:rPr>
              <a:t>Base teórica: Balances de Masa y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32000" y="1989000"/>
                <a:ext cx="3279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132000" y="2781360"/>
                <a:ext cx="2481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41720" y="4664160"/>
                <a:ext cx="53290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43160" y="3860640"/>
                <a:ext cx="3673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2124000" y="2076480"/>
            <a:ext cx="647640" cy="1496880"/>
          </a:xfrm>
          <a:custGeom>
            <a:avLst/>
            <a:gdLst>
              <a:gd name="textAreaLeft" fmla="*/ 414000 w 647640"/>
              <a:gd name="textAreaRight" fmla="*/ 648000 w 647640"/>
              <a:gd name="textAreaTop" fmla="*/ 38880 h 1496880"/>
              <a:gd name="textAreaBottom" fmla="*/ 1458000 h 14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2206800"/>
            <a:ext cx="158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46320" y="3871800"/>
            <a:ext cx="625320" cy="1440000"/>
          </a:xfrm>
          <a:custGeom>
            <a:avLst/>
            <a:gdLst>
              <a:gd name="textAreaLeft" fmla="*/ 399600 w 625320"/>
              <a:gd name="textAreaRight" fmla="*/ 625680 w 6253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975120"/>
            <a:ext cx="158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4781520" cy="6597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39640" y="260280"/>
            <a:ext cx="9716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5092920" cy="3827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5851800" cy="3121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95640" y="981000"/>
            <a:ext cx="3843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38178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63280" y="333360"/>
            <a:ext cx="6985080" cy="6524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eybal, R.E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peraciones de Transferencia de Masa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dició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Graw Hill. México, 198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Ketta, R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yclopedia of Chemical Processing &amp; Desig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el Dekker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. 11. New York,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st, A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incipios de Operaciones Unitarias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dición. C.E.C.S.A. México, 196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ry, R. &amp; Green, D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ry’s ChemicalEngineer’sHandbook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ª ed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Graw Hill. NewYork,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25092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223560"/>
            <a:ext cx="6948360" cy="6213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 operaciones más sencilla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 las que se presenta una transferencia simultánea de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sa y calor son la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umidificació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shumidificación.</a:t>
            </a:r>
            <a:br>
              <a:rPr sz="3400"/>
            </a:br>
            <a:br>
              <a:rPr sz="32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82560" y="259920"/>
            <a:ext cx="7561440" cy="6264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r los balances de masa y de energía en una torre de enfri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r las variables que afectan su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nder el proceso de enfriamiento como una transferencia simultánea de masa y de c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623736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50560" y="476280"/>
            <a:ext cx="6566040" cy="564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stas operaciones está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olucradas dos fases y dos componente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a fase líquid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agua generalmente) y un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seos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mpuesta por un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476280"/>
            <a:ext cx="6408720" cy="5689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o se logra mediante el contacto directo con aire, el cual se encuentra a una temperatura menor que el agu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76360" y="260280"/>
            <a:ext cx="7416720" cy="6337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 equipo corresponde a una columna rellena cilíndrica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altura del relleno es 40" y el diámetro de la columna es 6"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7056360" cy="6524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relleno corresponde a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nillos Rasching de 3/4"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(cilindros huecos de vidrio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260280"/>
            <a:ext cx="971640" cy="20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73800" cy="6264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ircuito de agua esta constituido por un estanque termostatizado, una bomba centrífuga, tuberías de cobre de 3/4", una manguera de retorno de líquido al estanque, una placa orificio (conectada a un manómetro de Hg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56360" cy="547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circuito de aire está conformado por un compresor, tuberías de cobre de 3/4", una placa orificio (conectada a un manómetro de CCl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y dos pares de termocuplas, a la entrada y salida del aire de la tor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0:03:50Z</dcterms:created>
  <dc:creator>georgette</dc:creator>
  <dc:description/>
  <dc:language>en-US</dc:language>
  <cp:lastModifiedBy>georgette</cp:lastModifiedBy>
  <dcterms:modified xsi:type="dcterms:W3CDTF">2007-08-07T00:08:29Z</dcterms:modified>
  <cp:revision>14</cp:revision>
  <dc:subject/>
  <dc:title>Esta experiencia está diseñada para poder estudiar los fenómenos de transferencia simultánea de calor y materia que ocurren durante una operación de humidificación de aire utilizando agua caliente.</dc:title>
</cp:coreProperties>
</file>