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857-C206-4D58-AFAF-F2E3AC98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FBF-F483-4626-A249-A0FF948E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4FD-6B1B-4E5C-BBEE-DE715B9F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110-FEC2-40C2-8472-62471E27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E4D-B010-48EA-B790-D207593C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C2A-11B3-4221-AB0A-61CEEB59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21B-D7D6-4D85-8598-DCA113B6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6BE-4BAD-406D-BE03-28D2B04C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14F-B362-49A3-B6A8-893F538F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EC5-5D00-42C7-B3A8-CFF1FDC1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4FD-93C6-468F-BDC0-1099D783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4C7-3D64-41BA-BD51-66A7FD0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5732-040C-441D-A4DD-4B89F30B9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528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549360"/>
            <a:ext cx="475128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artamento de Ingeniería Civil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Q53D Laboratorio de Ingeniería Químic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3516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000000"/>
                </a:solidFill>
                <a:latin typeface="Arial"/>
              </a:rPr>
              <a:t>Torre de Enfria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7991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emás se dispone de termocuplas a la entrada y a la salida de la columna para medir la temperatura d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1297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21337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49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CCl4 ), a 18º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4076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H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583272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132000" y="386064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378936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1268280"/>
            <a:ext cx="93672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1197000"/>
            <a:ext cx="936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133720"/>
            <a:ext cx="935280" cy="64908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4724280"/>
            <a:ext cx="935280" cy="64800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7080" y="3573360"/>
            <a:ext cx="1008000" cy="129564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27640" y="4797360"/>
            <a:ext cx="1079280" cy="122400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Impact"/>
              </a:rPr>
              <a:t>Base teórica: Balances de Masa y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32000" y="1989000"/>
                <a:ext cx="3279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132000" y="2781360"/>
                <a:ext cx="2481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41720" y="4664160"/>
                <a:ext cx="53290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43160" y="3860640"/>
                <a:ext cx="3673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124000" y="2076480"/>
            <a:ext cx="647640" cy="1496880"/>
          </a:xfrm>
          <a:custGeom>
            <a:avLst/>
            <a:gdLst>
              <a:gd name="textAreaLeft" fmla="*/ 414000 w 647640"/>
              <a:gd name="textAreaRight" fmla="*/ 648000 w 647640"/>
              <a:gd name="textAreaTop" fmla="*/ 38880 h 1496880"/>
              <a:gd name="textAreaBottom" fmla="*/ 1458000 h 14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20680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46320" y="3871800"/>
            <a:ext cx="625320" cy="1440000"/>
          </a:xfrm>
          <a:custGeom>
            <a:avLst/>
            <a:gdLst>
              <a:gd name="textAreaLeft" fmla="*/ 399600 w 625320"/>
              <a:gd name="textAreaRight" fmla="*/ 625680 w 6253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97512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4781520" cy="659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3964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5092920" cy="3827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5851800" cy="3121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95640" y="981000"/>
            <a:ext cx="3843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38178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63280" y="333360"/>
            <a:ext cx="698508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eybal, R.E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peraciones de Transferencia de Masa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México, 19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Ketta, R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yclopedia of Chemical Processing &amp; Desig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el Dekker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. 11. New York,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st, A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incipios de Operaciones Unitaria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C.E.C.S.A. México, 19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ry, R. &amp; Green, D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ry’s ChemicalEngineer’sHandbook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ª ed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NewYork,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223560"/>
            <a:ext cx="6948360" cy="6213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 operaciones más sencilla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las que se presenta una transferencia simultánea de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sa y calor son la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umidificació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humidificación.</a:t>
            </a:r>
            <a:br>
              <a:rPr sz="3400"/>
            </a:br>
            <a:br>
              <a:rPr sz="32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82560" y="259920"/>
            <a:ext cx="756144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r los balances de masa y de energía en una torre de enfri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r las variables que afectan su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er el proceso de enfriamiento como una transferencia simultánea de masa y de c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623736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50560" y="476280"/>
            <a:ext cx="6566040" cy="564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tas operaciones está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olucradas dos fases y dos componente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a fase líquid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agua generalmente) y un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eos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mpuesta por un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476280"/>
            <a:ext cx="6408720" cy="5689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o se logra mediante el contacto directo con aire, el cual se encuentra a una temperatura menor que 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76360" y="260280"/>
            <a:ext cx="7416720" cy="6337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 equipo corresponde a una columna rellena cilíndrica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altura del relleno es 40" y el diámetro de la columna es 6"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705636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relleno corresponde a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nillos Rasching de 3/4"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(cilindros huecos de vidrio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7380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ircuito de agua esta constituido por un estanque termostatizado, una bomba centrífuga, tuberías de cobre de 3/4", una manguera de retorno de líquido al estanque, una placa orificio (conectada a un manómetro de Hg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5636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 CCl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7-08-07T00:08:29Z</dcterms:modified>
  <cp:revision>14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