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B28-B92B-4665-9C50-64CDE89C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521-4933-440B-B150-6F07C02C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7DD-4ED2-42CB-9F08-31CC9C73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CC7-2EA0-4936-994B-CC3F01CF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5A1-0A4A-41A5-A3F0-34373D01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5C9-D6F2-4C50-BFE2-6910C8FA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625-18A2-4F5A-86BA-CE1EC12E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3B4-BC6D-42BD-A96C-8DE2DA67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7EA-B446-453D-BCDA-C2CFE905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646-2610-40D7-9B67-5193B8C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737-4A25-4FD2-A1FE-B46A049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43A-A13C-454A-91D9-BA6F113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B418-C4E7-4E29-A242-807A4E4FC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549360"/>
            <a:ext cx="475128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artamento de Ingeniería Civil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Q53D Laboratorio de Ingeniería Químic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Arial"/>
              </a:rPr>
              <a:t>Torre de Enfria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7991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emás se dispone de termocuplas a la entrada y a la salida de la columna para medir la temperatura d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1297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21337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49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CCl4 ), a 18º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407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H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583272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132000" y="386064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8936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1268280"/>
            <a:ext cx="9367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197000"/>
            <a:ext cx="936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133720"/>
            <a:ext cx="935280" cy="64908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4724280"/>
            <a:ext cx="935280" cy="64800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3573360"/>
            <a:ext cx="1008000" cy="129564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27640" y="4797360"/>
            <a:ext cx="1079280" cy="122400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Impact"/>
              </a:rPr>
              <a:t>Base teórica: Balances de Masa y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32000" y="1989000"/>
                <a:ext cx="3279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132000" y="2781360"/>
                <a:ext cx="2481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41720" y="4664160"/>
                <a:ext cx="5329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43160" y="3860640"/>
                <a:ext cx="3673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124000" y="2076480"/>
            <a:ext cx="647640" cy="1496880"/>
          </a:xfrm>
          <a:custGeom>
            <a:avLst/>
            <a:gdLst>
              <a:gd name="textAreaLeft" fmla="*/ 414000 w 647640"/>
              <a:gd name="textAreaRight" fmla="*/ 648000 w 647640"/>
              <a:gd name="textAreaTop" fmla="*/ 38880 h 1496880"/>
              <a:gd name="textAreaBottom" fmla="*/ 1458000 h 14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20680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6320" y="3871800"/>
            <a:ext cx="625320" cy="1440000"/>
          </a:xfrm>
          <a:custGeom>
            <a:avLst/>
            <a:gdLst>
              <a:gd name="textAreaLeft" fmla="*/ 399600 w 625320"/>
              <a:gd name="textAreaRight" fmla="*/ 625680 w 6253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97512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781520" cy="659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5092920" cy="3827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851800" cy="3121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384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38178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698508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223560"/>
            <a:ext cx="6948360" cy="6213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 operaciones más sencilla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las que se presenta una transferencia simultánea de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humidificación.</a:t>
            </a:r>
            <a:br>
              <a:rPr sz="3400"/>
            </a:br>
            <a:br>
              <a:rPr sz="32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82560" y="259920"/>
            <a:ext cx="756144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ánea de masa y de c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623736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50560" y="476280"/>
            <a:ext cx="6566040" cy="564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tas operaciones está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mpuesta por un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476280"/>
            <a:ext cx="6408720" cy="568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76360" y="260280"/>
            <a:ext cx="7416720" cy="6337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equipo corresponde a una columna rellena cilíndric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altura del relleno es 40" y el diámetro de la columna es 6"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05636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nillos Rasching de 3/4"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(cilindros huecos de vidrio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ircuito de agua esta constituido por un estanque termostatizado, una bomba centrífuga, tuberías de cobre de 3/4", una manguera de retorno de líquido al estanque, una placa orificio (conectada a un manómetro de H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7-08-07T00:08:29Z</dcterms:modified>
  <cp:revision>14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