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5252-A6E2-4CC2-8373-B4B9E1C0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BCB-EFC2-4C52-8F9E-DCD13C4E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1946-1FA3-4CF9-8579-37EA98D6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97F-8DCF-46AA-B3EF-BC9B4AC1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141-ABDA-42E6-9DC7-D968D197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D9F-50CE-4E91-85C5-BFAE6966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32E-5BEA-46DF-AFEC-4BD43D66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654-AA53-4AB7-BFF1-FDAEFA08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3A3-AF49-4494-8CC5-39169F7B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BCD2-659D-44B9-B6C9-D3B2FC33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77FB-1CC1-4571-A887-F0280E38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995-5ECF-4760-912B-DD6B2BDA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5502-BF6F-47A8-AA12-D820A7907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9528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549360"/>
            <a:ext cx="4751280" cy="8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artamento de Ingeniería Civil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Q53D Laboratorio de Ingeniería Químic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557360"/>
            <a:ext cx="835164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800" spc="-1" strike="noStrike">
                <a:solidFill>
                  <a:srgbClr val="000000"/>
                </a:solidFill>
                <a:latin typeface="Arial"/>
              </a:rPr>
              <a:t>Torre de Enfria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221000"/>
            <a:ext cx="799128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80"/>
              </a:gs>
            </a:gsLst>
            <a:lin ang="108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624720" cy="5473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emás se dispone de termocuplas a la entrada y a la salida de la columna para medir la temperatura del agua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6624720" cy="12970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ibración de las placas orif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213372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1) Aire: Q (m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/hr) = 3.01 ×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0.49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 (cm. CCl4 ), a 18º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6360" y="407664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2) Agua: Q (L/min.) = 1.04 ×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3200" spc="-1" strike="noStrike" baseline="30000">
                <a:solidFill>
                  <a:srgbClr val="000000"/>
                </a:solidFill>
                <a:latin typeface="Arial"/>
              </a:rPr>
              <a:t>0.51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 (cm. Hg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583272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3132000" y="3860640"/>
            <a:ext cx="936720" cy="649440"/>
          </a:xfrm>
          <a:prstGeom prst="ellipse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360" y="3789360"/>
            <a:ext cx="936720" cy="649440"/>
          </a:xfrm>
          <a:prstGeom prst="ellipse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1268280"/>
            <a:ext cx="936720" cy="7207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1197000"/>
            <a:ext cx="936360" cy="7207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2133720"/>
            <a:ext cx="935280" cy="649080"/>
          </a:xfrm>
          <a:prstGeom prst="ellipse">
            <a:avLst/>
          </a:prstGeom>
          <a:noFill/>
          <a:ln w="255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80000" y="4724280"/>
            <a:ext cx="935280" cy="648000"/>
          </a:xfrm>
          <a:prstGeom prst="ellipse">
            <a:avLst/>
          </a:prstGeom>
          <a:noFill/>
          <a:ln w="255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77080" y="3573360"/>
            <a:ext cx="1008000" cy="1295640"/>
          </a:xfrm>
          <a:prstGeom prst="ellipse">
            <a:avLst/>
          </a:prstGeom>
          <a:noFill/>
          <a:ln w="255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427640" y="4797360"/>
            <a:ext cx="1079280" cy="1224000"/>
          </a:xfrm>
          <a:prstGeom prst="ellipse">
            <a:avLst/>
          </a:prstGeom>
          <a:noFill/>
          <a:ln w="255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000000"/>
                </a:solidFill>
                <a:latin typeface="Impact"/>
              </a:rPr>
              <a:t>Base teórica: Balances de Masa y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132000" y="1989000"/>
                <a:ext cx="32799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132000" y="2781360"/>
                <a:ext cx="2481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141720" y="4664160"/>
                <a:ext cx="53290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43160" y="3860640"/>
                <a:ext cx="3673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2124000" y="2076480"/>
            <a:ext cx="647640" cy="1496880"/>
          </a:xfrm>
          <a:custGeom>
            <a:avLst/>
            <a:gdLst>
              <a:gd name="textAreaLeft" fmla="*/ 414000 w 647640"/>
              <a:gd name="textAreaRight" fmla="*/ 648000 w 647640"/>
              <a:gd name="textAreaTop" fmla="*/ 38880 h 1496880"/>
              <a:gd name="textAreaBottom" fmla="*/ 1458000 h 14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2206800"/>
            <a:ext cx="1582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46320" y="3871800"/>
            <a:ext cx="625320" cy="1440000"/>
          </a:xfrm>
          <a:custGeom>
            <a:avLst/>
            <a:gdLst>
              <a:gd name="textAreaLeft" fmla="*/ 399600 w 625320"/>
              <a:gd name="textAreaRight" fmla="*/ 625680 w 6253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975120"/>
            <a:ext cx="1582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4781520" cy="6597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39640" y="260280"/>
            <a:ext cx="97164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5092920" cy="3827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2400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5851800" cy="3121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6836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6836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995640" y="981000"/>
            <a:ext cx="3843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68360" y="333360"/>
            <a:ext cx="971640" cy="209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381780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63280" y="333360"/>
            <a:ext cx="6985080" cy="6524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BLIOGRAF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eybal, R.E.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peraciones de Transferencia de Masa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ª edición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 Graw Hill. México, 198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Ketta, R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cyclopedia of Chemical Processing &amp; Design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el Dekker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. 11. New York, 1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oust, A.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incipios de Operaciones Unitarias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ª edición. C.E.C.S.A. México, 196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ry, R. &amp; Green, D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ry’s ChemicalEngineer’sHandbook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ª edi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 Graw Hill. NewYork, 19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>
            <a:alphaModFix amt="0"/>
          </a:blip>
          <a:stretch/>
        </p:blipFill>
        <p:spPr>
          <a:xfrm>
            <a:off x="25092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95280" y="223560"/>
            <a:ext cx="6948360" cy="62132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s operaciones más sencilla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n las que se presenta una transferencia simultánea de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sa y calor son la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humidificació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shumidificación.</a:t>
            </a:r>
            <a:br>
              <a:rPr sz="3400"/>
            </a:br>
            <a:br>
              <a:rPr sz="32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82560" y="259920"/>
            <a:ext cx="7561440" cy="6264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car los balances de masa y de energía en una torre de enfri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r las variables que afectan su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nder el proceso de enfriamiento como una transferencia simultánea de masa y de ca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623736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50560" y="476280"/>
            <a:ext cx="6566040" cy="564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stas operaciones está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olucradas dos fases y dos componentes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a fase líquid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agua generalmente) y una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seos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ompuesta por un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260280"/>
            <a:ext cx="971280" cy="2094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5640" y="476280"/>
            <a:ext cx="6408720" cy="5689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o se logra mediante el contacto directo con aire, el cual se encuentra a una temperatura menor que el agua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476360" y="260280"/>
            <a:ext cx="7416720" cy="6337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 equipo corresponde a una columna rellena cilíndrica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altura del relleno es 40" y el diámetro de la columna es 6"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920" y="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7056360" cy="6524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relleno corresponde a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nillos Rasching de 3/4"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(cilindros huecos de vidrio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5734080"/>
            <a:ext cx="7993080" cy="3589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68360" y="260280"/>
            <a:ext cx="971640" cy="20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273800" cy="6264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El circuito de agua esta constituido por un estanque termostatizado, una bomba centrífuga, tuberías de cobre de 3/4", una manguera de retorno de líquido al estanque, una placa orificio (conectada a un manómetro de Hg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056360" cy="54738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l circuito de aire está conformado por un compresor, tuberías de cobre de 3/4", una placa orificio (conectada a un manómetro de CCl</a:t>
            </a:r>
            <a:r>
              <a:rPr b="0" lang="es-E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) y dos pares de termocuplas, a la entrada y salida del aire de la tor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24000" y="333360"/>
            <a:ext cx="971280" cy="2093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55640" y="5950080"/>
            <a:ext cx="7993080" cy="3585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20:03:50Z</dcterms:created>
  <dc:creator>georgette</dc:creator>
  <dc:description/>
  <dc:language>en-US</dc:language>
  <cp:lastModifiedBy>georgette</cp:lastModifiedBy>
  <dcterms:modified xsi:type="dcterms:W3CDTF">2007-08-07T00:08:29Z</dcterms:modified>
  <cp:revision>14</cp:revision>
  <dc:subject/>
  <dc:title>Esta experiencia está diseñada para poder estudiar los fenómenos de transferencia simultánea de calor y materia que ocurren durante una operación de humidificación de aire utilizando agua caliente.</dc:title>
</cp:coreProperties>
</file>