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wmf" ContentType="image/x-wmf"/>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D258C-8A43-4295-A253-FCC5A12FE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F4673-A02D-471E-ADC4-BDC0B3F33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CE701-5230-4D6A-840F-6C845E48E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33785-1D7B-4B89-9319-B91F02BE4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8ED82-E446-4E11-A47A-37DF18B93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60D4E-93C2-4F26-BF4D-887CFCFE5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A197E-EB4A-4603-ABB8-8BC163D02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9DB7C-B183-4113-B732-F020E1130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F3AFA-871B-4AAF-94FA-8052D8CBE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5DC9A-2FC6-4F5B-A218-402955E4C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6C2DB-FB7F-4BE8-889A-8F6BADFF4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B1E02-869C-43F0-845E-2510B9045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48324-63FF-4A48-B6CB-FA390EB56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6A124-A49A-4149-9330-FAEA34F06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A3934-A5A3-4A9E-B557-E80BDCD63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2A564-C4D9-4D33-8D0A-17E5EB1CE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8131F-EF1F-4C98-ABFC-281D32A15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3782EF-98D3-49E7-B959-330DBA5F36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4"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0A6CC-F085-44C3-91DA-2D1E58494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EC0945-09F1-4FB6-891D-5A319AD9F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8"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D667C-D248-48B0-8AC3-EEED3AF7B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0F9394-4BBB-475E-95F9-A052F36E5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058F8-462E-45E0-9EB4-751303FD8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EBA25-39D4-4EBC-B19B-6912F7E1D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2A9BF-4519-42C2-A4DD-383820047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2C19B-A517-4BEB-AF68-50762EAB8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12009-88C9-4CE6-B2CB-C47ECA530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EDA79-D552-4AF3-AA80-E2359CE73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1"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32BFAA-BA1D-4717-95DB-1DA5D324CF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7"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35A6BB-D96D-4E4B-B1A2-4F0D58940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5D07E-6464-4617-81C1-152604080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95208-9A23-4928-B051-78576B01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EE920-D987-4043-BC17-D83AE158D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C07BF-B48D-48DE-BF9F-E305652C3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FF37D-109A-4908-A42E-E5C366ABE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D0D1F-5570-435F-AA25-5001886F3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A8AD-1D00-4C95-93FE-6E14702C9745}"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E5E7-3F58-4A6C-A1BE-7EAB7424C02B}"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FCD0-3639-4A70-B6CF-50D7987D9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13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7</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5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	</a:t>
            </a:r>
            <a:r>
              <a:rPr b="0" lang="es-ES_tradnl" sz="3200" spc="-1" strike="noStrike">
                <a:solidFill>
                  <a:srgbClr val="ffffcc"/>
                </a:solidFill>
                <a:latin typeface="Arial"/>
              </a:rPr>
              <a:t>Pruebas experimental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Efecto de ion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8170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               </a:t>
            </a:r>
            <a:r>
              <a:rPr b="0" lang="es-ES_tradnl" sz="4400" spc="-1" strike="noStrike">
                <a:solidFill>
                  <a:srgbClr val="ffcc00"/>
                </a:solidFill>
                <a:latin typeface="Arial"/>
              </a:rPr>
              <a:t>¿Preguntas?</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132" name=""/>
          <p:cNvGraphicFramePr/>
          <p:nvPr/>
        </p:nvGraphicFramePr>
        <p:xfrm>
          <a:off x="1143000" y="1828800"/>
          <a:ext cx="2416320" cy="4724280"/>
        </p:xfrm>
        <a:graphic>
          <a:graphicData uri="http://schemas.openxmlformats.org/presentationml/2006/ole">
            <p:oleObj r:id="rId2" spid="">
              <p:embed/>
              <p:pic>
                <p:nvPicPr>
                  <p:cNvPr id="133"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13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138"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39"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140"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41"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42" name=""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4"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45" name=""/>
          <p:cNvSpPr/>
          <p:nvPr/>
        </p:nvSpPr>
        <p:spPr>
          <a:xfrm>
            <a:off x="591480" y="2185920"/>
            <a:ext cx="798048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paración de vario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47"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49"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50" name=""/>
          <p:cNvGraphicFramePr/>
          <p:nvPr/>
        </p:nvGraphicFramePr>
        <p:xfrm>
          <a:off x="2895480" y="3124080"/>
          <a:ext cx="2637000" cy="1774800"/>
        </p:xfrm>
        <a:graphic>
          <a:graphicData uri="http://schemas.openxmlformats.org/presentationml/2006/ole">
            <p:oleObj r:id="rId2" spid="">
              <p:embed/>
              <p:pic>
                <p:nvPicPr>
                  <p:cNvPr id="151"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53" name=""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55" name=""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USUARIO</cp:lastModifiedBy>
  <dcterms:modified xsi:type="dcterms:W3CDTF">2007-08-08T16:02:25Z</dcterms:modified>
  <cp:revision>21</cp:revision>
  <dc:subject/>
  <dc:title>Electro-obtención (EW)</dc:title>
</cp:coreProperties>
</file>