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D2D-6E18-4F5B-9EF0-F3AC80BA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BF8-3DDE-4EFE-A548-957BA594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834-2223-4E7B-8038-D8473202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1B1-4B63-46F4-B3D3-FA8C21BD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1CCD-0F8D-49BC-87C9-47F5372B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3382-7943-4748-9E3F-A0741C9B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1E08-A498-4734-BE07-59E2CAA7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4B0E-B39E-41C8-8F4B-0567BD56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5B97-8A92-4D45-AF6D-A44B9587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2ED1-6909-4E1B-87D4-61CF9552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3EA4-CF77-4CA4-970F-91930C25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03F-529B-40E4-8DE1-999D332B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7423-A9CF-4219-9258-FAC47601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A507-6D3D-4A2D-98D9-F9A73A97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3878-F5B5-4E57-88BE-65D24162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B4AA-1DA5-49E8-B870-67924252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5054-642B-422F-BAC5-AEB7E84F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25F-825C-44B4-8D37-3FB57C20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6A6-8F90-4395-8893-D1D7D131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326-0DC7-4280-B803-3F708ABC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E02-5EA2-4DB3-9AEF-B1AEFD44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7EA-2C2E-4B52-A450-E53F985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304-E5CD-460C-A97C-3ED57826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D23-9F96-4DA0-9108-ECE14F0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E538-28E0-4544-851E-4DEBFCAD15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98C7-76A5-4A16-ACB6-C46B3223F4C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DCP04817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etro%20Pow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9455000">
            <a:off x="3581280" y="1447560"/>
            <a:ext cx="2286000" cy="327636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38280" y="3123720"/>
            <a:ext cx="106704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457200"/>
            <a:ext cx="11430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410080" y="1371240"/>
            <a:ext cx="114300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04920" y="4648320"/>
            <a:ext cx="1218960" cy="1752120"/>
            <a:chOff x="304920" y="4648320"/>
            <a:chExt cx="1218960" cy="1752120"/>
          </a:xfrm>
        </p:grpSpPr>
        <p:sp>
          <p:nvSpPr>
            <p:cNvPr id="215" name=""/>
            <p:cNvSpPr/>
            <p:nvPr/>
          </p:nvSpPr>
          <p:spPr>
            <a:xfrm>
              <a:off x="304920" y="4648320"/>
              <a:ext cx="1218960" cy="713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920" y="5362200"/>
              <a:ext cx="1218960" cy="1038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629400" y="10666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34340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781680" y="1219320"/>
            <a:ext cx="30492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58000" y="1218960"/>
            <a:ext cx="60948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238880" y="1523520"/>
            <a:ext cx="30492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240" y="58896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2760" y="137160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6800" y="1905120"/>
            <a:ext cx="6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Fil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9455000">
            <a:off x="3352320" y="1600200"/>
            <a:ext cx="2286000" cy="327672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472428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4876920"/>
            <a:ext cx="457200" cy="99036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5791320"/>
            <a:ext cx="2057400" cy="9144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64771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647712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057400" y="3809880"/>
            <a:ext cx="685800" cy="914400"/>
            <a:chOff x="2057400" y="3809880"/>
            <a:chExt cx="685800" cy="914400"/>
          </a:xfrm>
        </p:grpSpPr>
        <p:sp>
          <p:nvSpPr>
            <p:cNvPr id="232" name=""/>
            <p:cNvSpPr/>
            <p:nvPr/>
          </p:nvSpPr>
          <p:spPr>
            <a:xfrm>
              <a:off x="2057400" y="4191120"/>
              <a:ext cx="609840" cy="5331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38098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00320" y="31240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Fluj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90720" y="4038120"/>
            <a:ext cx="1066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66680" y="457200"/>
          <a:ext cx="7543800" cy="56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543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filtros_prensa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8T19:05:47Z</dcterms:modified>
  <cp:revision>325</cp:revision>
  <dc:subject/>
  <dc:title>Reactor Agitado</dc:title>
</cp:coreProperties>
</file>