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FFF-A9B6-4AB4-BB7A-6B5EC50B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198-38AA-421D-B1C6-B550B5DE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206-600D-41DD-A754-D691D48F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C72-318F-4843-964B-335B9A05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CB75-7389-449F-95D6-4EF4ED19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9040-E6B5-440F-85DB-CDAF104D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50F8-0F6B-4791-AE57-B50D4F69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EF4F-6733-4062-BE32-BEC4FADB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B7FE-106A-4B40-9CD9-477940A2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EA26-B779-42EB-B1F1-6BE6D548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01B5-F4E5-4ED2-942D-0C352234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8EC-C768-4B23-9448-F6F98BF5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C986-6EB2-4736-B045-6EFAEE1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FD1E-3B93-46EC-A70A-C03A906C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942C-C457-4910-BC68-678F8778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DD05-CEAD-492D-BAEB-F2AC7890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7FDC-4F95-47F6-BC25-5B2724EE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74F-7980-4C3A-946D-0AF13FC3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D19-8773-4D84-BBAB-86DD7AF5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3BA-3303-4C9E-B7BD-1329025F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B3D-97C3-4BD8-AF5A-DE05C144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F6F-E15C-48CF-BFF8-78CC9F55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A8F-FE0F-4CB9-B55E-98B05FD0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618-661E-4F6E-B753-D23DFA99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EA22-2468-4DA2-BD76-FCE27DB5CD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F557-1A31-4A4E-92F4-E405699D97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DCP04817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etro%20Pow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9455000">
            <a:off x="3581280" y="1447560"/>
            <a:ext cx="2286000" cy="327636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38280" y="3123720"/>
            <a:ext cx="106704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457200"/>
            <a:ext cx="11430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410080" y="1371240"/>
            <a:ext cx="114300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04920" y="4648320"/>
            <a:ext cx="1218960" cy="1752120"/>
            <a:chOff x="304920" y="4648320"/>
            <a:chExt cx="1218960" cy="1752120"/>
          </a:xfrm>
        </p:grpSpPr>
        <p:sp>
          <p:nvSpPr>
            <p:cNvPr id="215" name=""/>
            <p:cNvSpPr/>
            <p:nvPr/>
          </p:nvSpPr>
          <p:spPr>
            <a:xfrm>
              <a:off x="304920" y="4648320"/>
              <a:ext cx="1218960" cy="713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920" y="5362200"/>
              <a:ext cx="1218960" cy="1038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629400" y="10666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34340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781680" y="1219320"/>
            <a:ext cx="30492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58000" y="1218960"/>
            <a:ext cx="60948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238880" y="1523520"/>
            <a:ext cx="30492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240" y="58896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2760" y="137160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6800" y="1905120"/>
            <a:ext cx="6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Fil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9455000">
            <a:off x="3352320" y="1600200"/>
            <a:ext cx="2286000" cy="327672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472428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4876920"/>
            <a:ext cx="457200" cy="99036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5791320"/>
            <a:ext cx="2057400" cy="9144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64771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647712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057400" y="3809880"/>
            <a:ext cx="685800" cy="914400"/>
            <a:chOff x="2057400" y="3809880"/>
            <a:chExt cx="685800" cy="914400"/>
          </a:xfrm>
        </p:grpSpPr>
        <p:sp>
          <p:nvSpPr>
            <p:cNvPr id="232" name=""/>
            <p:cNvSpPr/>
            <p:nvPr/>
          </p:nvSpPr>
          <p:spPr>
            <a:xfrm>
              <a:off x="2057400" y="4191120"/>
              <a:ext cx="609840" cy="5331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38098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00320" y="31240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Fluj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90720" y="4038120"/>
            <a:ext cx="1066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66680" y="457200"/>
          <a:ext cx="7543800" cy="56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543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filtros_prensa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8T19:05:47Z</dcterms:modified>
  <cp:revision>325</cp:revision>
  <dc:subject/>
  <dc:title>Reactor Agitado</dc:title>
</cp:coreProperties>
</file>