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EE0C-EB8E-406B-B2E5-C8E5904FF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BC01-923E-4B2B-BB3C-6A1C9985D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E1AF-344A-4B09-B4A9-5E44EBFBA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8A67-B881-4929-859B-4C8DBD59F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3FF9-3C8F-466F-8210-7C31B7215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E144A-D4C7-4C7B-AB72-3C554C24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3CEE3-516D-4590-8330-B7318D467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71850-8CB8-4FAC-9E0C-649FB8047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76141-4302-4710-BF2F-C6E9C58E7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E7CB-E492-4AAE-AF58-C3B799A9B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8F411-039C-4CB2-BA32-C4E5626A9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BC3B0-8E25-4D5D-8153-B990E056A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79C8B-ABC5-4DE0-9F6E-2BF453E4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B967D-1CD9-457B-9E2C-82BE878A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72423-C7DE-49F0-B8A1-8A746A80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8C1BC-6249-4268-AFD7-0093FF5DA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EE01-4B78-4DD1-9CF1-9CFA71A12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BADE-1D38-4F07-9E59-1425F914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3145-45DC-49FC-A216-C865BC3C4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D459-8BB8-4B65-B0A5-994ADB9F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D0E2-C0C1-4545-9173-B40F1BB1B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F887-8EE6-44BC-8745-FBBE888AB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C01D-F9C4-40E9-9E06-B76B31A57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0F7A-45FF-4D9A-A051-DDB6CF80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36F1-B5A4-4AA1-9D47-31CEB39DC9B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147FB-3504-44C5-994C-C7C8F6875488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DCP04817" descr=""/>
          <p:cNvPicPr/>
          <p:nvPr/>
        </p:nvPicPr>
        <p:blipFill>
          <a:blip r:embed="rId1"/>
          <a:stretch/>
        </p:blipFill>
        <p:spPr>
          <a:xfrm>
            <a:off x="-914400" y="-685800"/>
            <a:ext cx="10972800" cy="82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etro%20Pow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 rot="19455000">
            <a:off x="3581280" y="1447560"/>
            <a:ext cx="2286000" cy="3276360"/>
          </a:xfrm>
          <a:prstGeom prst="diamond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438280" y="3123720"/>
            <a:ext cx="1067040" cy="6858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629400" y="457200"/>
            <a:ext cx="1143000" cy="16002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5410080" y="1371240"/>
            <a:ext cx="1143000" cy="6858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04920" y="4648320"/>
            <a:ext cx="1218960" cy="1752120"/>
            <a:chOff x="304920" y="4648320"/>
            <a:chExt cx="1218960" cy="1752120"/>
          </a:xfrm>
        </p:grpSpPr>
        <p:sp>
          <p:nvSpPr>
            <p:cNvPr id="215" name=""/>
            <p:cNvSpPr/>
            <p:nvPr/>
          </p:nvSpPr>
          <p:spPr>
            <a:xfrm>
              <a:off x="304920" y="4648320"/>
              <a:ext cx="1218960" cy="71388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04920" y="5362200"/>
              <a:ext cx="1218960" cy="103824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6629400" y="1066680"/>
            <a:ext cx="11430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33920" y="4343400"/>
            <a:ext cx="457200" cy="990720"/>
          </a:xfrm>
          <a:custGeom>
            <a:avLst/>
            <a:gdLst/>
            <a:ahLst/>
            <a:rect l="l" t="t" r="r" b="b"/>
            <a:pathLst>
              <a:path w="440" h="624">
                <a:moveTo>
                  <a:pt x="192" y="0"/>
                </a:moveTo>
                <a:cubicBezTo>
                  <a:pt x="120" y="0"/>
                  <a:pt x="0" y="280"/>
                  <a:pt x="0" y="384"/>
                </a:cubicBezTo>
                <a:cubicBezTo>
                  <a:pt x="0" y="488"/>
                  <a:pt x="120" y="624"/>
                  <a:pt x="192" y="624"/>
                </a:cubicBezTo>
                <a:cubicBezTo>
                  <a:pt x="264" y="624"/>
                  <a:pt x="424" y="480"/>
                  <a:pt x="432" y="384"/>
                </a:cubicBezTo>
                <a:cubicBezTo>
                  <a:pt x="440" y="288"/>
                  <a:pt x="264" y="0"/>
                  <a:pt x="192" y="0"/>
                </a:cubicBez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781680" y="1219320"/>
            <a:ext cx="304920" cy="3045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858000" y="1218960"/>
            <a:ext cx="609480" cy="6094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7238880" y="1523520"/>
            <a:ext cx="304920" cy="3049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22240" y="588960"/>
            <a:ext cx="32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0458c"/>
                </a:solidFill>
                <a:latin typeface="Tahoma"/>
              </a:rPr>
              <a:t>Filtro Prensa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12760" y="1371600"/>
            <a:ext cx="692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46800" y="1905120"/>
            <a:ext cx="68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Filt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9455000">
            <a:off x="3352320" y="1600200"/>
            <a:ext cx="2286000" cy="3276720"/>
          </a:xfrm>
          <a:prstGeom prst="diamond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67080" y="4724280"/>
            <a:ext cx="457200" cy="990720"/>
          </a:xfrm>
          <a:custGeom>
            <a:avLst/>
            <a:gdLst/>
            <a:ahLst/>
            <a:rect l="l" t="t" r="r" b="b"/>
            <a:pathLst>
              <a:path w="440" h="624">
                <a:moveTo>
                  <a:pt x="192" y="0"/>
                </a:moveTo>
                <a:cubicBezTo>
                  <a:pt x="120" y="0"/>
                  <a:pt x="0" y="280"/>
                  <a:pt x="0" y="384"/>
                </a:cubicBezTo>
                <a:cubicBezTo>
                  <a:pt x="0" y="488"/>
                  <a:pt x="120" y="624"/>
                  <a:pt x="192" y="624"/>
                </a:cubicBezTo>
                <a:cubicBezTo>
                  <a:pt x="264" y="624"/>
                  <a:pt x="424" y="480"/>
                  <a:pt x="432" y="384"/>
                </a:cubicBezTo>
                <a:cubicBezTo>
                  <a:pt x="440" y="288"/>
                  <a:pt x="264" y="0"/>
                  <a:pt x="192" y="0"/>
                </a:cubicBez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00600" y="4876920"/>
            <a:ext cx="457200" cy="990360"/>
          </a:xfrm>
          <a:custGeom>
            <a:avLst/>
            <a:gdLst/>
            <a:ahLst/>
            <a:rect l="l" t="t" r="r" b="b"/>
            <a:pathLst>
              <a:path w="440" h="624">
                <a:moveTo>
                  <a:pt x="192" y="0"/>
                </a:moveTo>
                <a:cubicBezTo>
                  <a:pt x="120" y="0"/>
                  <a:pt x="0" y="280"/>
                  <a:pt x="0" y="384"/>
                </a:cubicBezTo>
                <a:cubicBezTo>
                  <a:pt x="0" y="488"/>
                  <a:pt x="120" y="624"/>
                  <a:pt x="192" y="624"/>
                </a:cubicBezTo>
                <a:cubicBezTo>
                  <a:pt x="264" y="624"/>
                  <a:pt x="424" y="480"/>
                  <a:pt x="432" y="384"/>
                </a:cubicBezTo>
                <a:cubicBezTo>
                  <a:pt x="440" y="288"/>
                  <a:pt x="264" y="0"/>
                  <a:pt x="192" y="0"/>
                </a:cubicBez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05320" y="5791320"/>
            <a:ext cx="2057400" cy="914400"/>
          </a:xfrm>
          <a:custGeom>
            <a:avLst/>
            <a:gdLst>
              <a:gd name="textAreaLeft" fmla="*/ 452160 w 2057400"/>
              <a:gd name="textAreaRight" fmla="*/ 1605240 w 205740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00600" y="647712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9880" y="6477120"/>
            <a:ext cx="38124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057400" y="3809880"/>
            <a:ext cx="685800" cy="914400"/>
            <a:chOff x="2057400" y="3809880"/>
            <a:chExt cx="685800" cy="914400"/>
          </a:xfrm>
        </p:grpSpPr>
        <p:sp>
          <p:nvSpPr>
            <p:cNvPr id="232" name=""/>
            <p:cNvSpPr/>
            <p:nvPr/>
          </p:nvSpPr>
          <p:spPr>
            <a:xfrm>
              <a:off x="2057400" y="4191120"/>
              <a:ext cx="609840" cy="53316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057400" y="3809880"/>
              <a:ext cx="685800" cy="685800"/>
            </a:xfrm>
            <a:prstGeom prst="ellipse">
              <a:avLst/>
            </a:prstGeom>
            <a:solidFill>
              <a:srgbClr val="99ccff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2200320" y="3124080"/>
            <a:ext cx="63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Fluj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90720" y="4038120"/>
            <a:ext cx="1066680" cy="6858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1752120"/>
            <a:ext cx="7010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8380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iltro Prens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1676520"/>
            <a:ext cx="6607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OBJETIVO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studiar un filtro prensa, para determinar las características de la filtración, tipo de torta, porosidad, resistencia específica, constante de filtración, Volumen equivalent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219320" y="3886200"/>
                <a:ext cx="624816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C</m:t>
                        </m:r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ΔP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C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ΔP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975600" y="5791320"/>
            <a:ext cx="374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Alan Foust, George Brown, Vían-Oca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 flipV="1">
            <a:off x="1523880" y="1752480"/>
            <a:ext cx="0" cy="37339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23880" y="5486400"/>
            <a:ext cx="53341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52480" y="3505320"/>
            <a:ext cx="30481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         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      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   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   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41920" y="28954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04040" y="2514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676520" y="2133720"/>
            <a:ext cx="4800600" cy="31240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44120" y="198108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V/d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2362320"/>
            <a:ext cx="2286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554520" y="57913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V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8080" y="9907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V  v/s  t                       Gráfico  dV/dt  v/s  V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62320" y="1219320"/>
            <a:ext cx="152388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1066680" y="457200"/>
          <a:ext cx="7543800" cy="563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57200"/>
                    <a:ext cx="7543800" cy="56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filtros_prensa" descr="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66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dcterms:modified xsi:type="dcterms:W3CDTF">2007-08-08T19:05:47Z</dcterms:modified>
  <cp:revision>325</cp:revision>
  <dc:subject/>
  <dc:title>Reactor Agitado</dc:title>
</cp:coreProperties>
</file>