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F67A-96F0-4A88-8269-08877DB58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964-B4EF-4BCA-AD84-6D19D461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74A1-78FB-4EB0-AA4D-E4FDC4676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E6A2-95B0-4727-9EE4-E456776C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5364-9DC0-4B1F-8B0E-F8833ADB5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9B8A-5419-4A83-BDAD-7DBCABA20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102BB-273F-4145-A235-7A05F719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4FD8-4954-43DA-9191-516E080FD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C5EC7-242C-4B0E-8CAE-B9A809E19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5362D-EC61-4383-A87C-83B979DCB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54667-C74F-4ABF-9211-4FE4EF6A2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5A9E-C658-49D8-96ED-0A1D7C75C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B1639-9078-424A-9803-EDD69C087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38594-3C84-4050-B6F0-34145F9E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2E465-F8BC-43A7-AAF7-0257000F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A30CE-48A4-437D-AFE0-5D982AB54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3422-2454-4A26-92F5-D8DCCABAA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7E5E-4F4F-4F3D-9DE0-7350F15A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2BBF1-83B7-4208-9B9F-047C2843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219E-8D5F-4160-A0E3-919EDD74F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9511-D78D-4A22-8AD1-D4A17C4A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7115-3A8B-4450-B57F-3477E798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1FDA-4EBB-4D83-B1A7-61643C53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909-7378-4EB2-863F-99A272FD2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425E6-1AB1-4E72-998F-D76BD96474A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B2E5-A9AB-463F-9A84-88927AED956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DCP04817" descr=""/>
          <p:cNvPicPr/>
          <p:nvPr/>
        </p:nvPicPr>
        <p:blipFill>
          <a:blip r:embed="rId1"/>
          <a:stretch/>
        </p:blipFill>
        <p:spPr>
          <a:xfrm>
            <a:off x="-914400" y="-685800"/>
            <a:ext cx="10972800" cy="82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etro%20Pow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9455000">
            <a:off x="3581280" y="1447560"/>
            <a:ext cx="2286000" cy="327636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2438280" y="3123720"/>
            <a:ext cx="106704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629400" y="457200"/>
            <a:ext cx="1143000" cy="1600200"/>
          </a:xfrm>
          <a:prstGeom prst="rect">
            <a:avLst/>
          </a:pr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5410080" y="1371240"/>
            <a:ext cx="114300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304920" y="4648320"/>
            <a:ext cx="1218960" cy="1752120"/>
            <a:chOff x="304920" y="4648320"/>
            <a:chExt cx="1218960" cy="1752120"/>
          </a:xfrm>
        </p:grpSpPr>
        <p:sp>
          <p:nvSpPr>
            <p:cNvPr id="215" name=""/>
            <p:cNvSpPr/>
            <p:nvPr/>
          </p:nvSpPr>
          <p:spPr>
            <a:xfrm>
              <a:off x="304920" y="4648320"/>
              <a:ext cx="1218960" cy="71388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04920" y="5362200"/>
              <a:ext cx="1218960" cy="103824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6629400" y="1066680"/>
            <a:ext cx="11430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434340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781680" y="1219320"/>
            <a:ext cx="304920" cy="30456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858000" y="1218960"/>
            <a:ext cx="609480" cy="6094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7238880" y="1523520"/>
            <a:ext cx="304920" cy="30492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22240" y="588960"/>
            <a:ext cx="321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812760" y="1371600"/>
            <a:ext cx="692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746800" y="1905120"/>
            <a:ext cx="685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P</a:t>
            </a:r>
            <a:r>
              <a:rPr b="0" lang="es-ES_tradnl" sz="2400" spc="-1" strike="noStrike" baseline="-25000">
                <a:solidFill>
                  <a:srgbClr val="40458c"/>
                </a:solidFill>
                <a:latin typeface="Tahoma"/>
              </a:rPr>
              <a:t>Filtr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rot="19455000">
            <a:off x="3352320" y="1600200"/>
            <a:ext cx="2286000" cy="3276720"/>
          </a:xfrm>
          <a:prstGeom prst="diamond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7080" y="4724280"/>
            <a:ext cx="457200" cy="99072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800600" y="4876920"/>
            <a:ext cx="457200" cy="990360"/>
          </a:xfrm>
          <a:custGeom>
            <a:avLst/>
            <a:gdLst/>
            <a:ahLst/>
            <a:rect l="l" t="t" r="r" b="b"/>
            <a:pathLst>
              <a:path w="440" h="624">
                <a:moveTo>
                  <a:pt x="192" y="0"/>
                </a:moveTo>
                <a:cubicBezTo>
                  <a:pt x="120" y="0"/>
                  <a:pt x="0" y="280"/>
                  <a:pt x="0" y="384"/>
                </a:cubicBezTo>
                <a:cubicBezTo>
                  <a:pt x="0" y="488"/>
                  <a:pt x="120" y="624"/>
                  <a:pt x="192" y="624"/>
                </a:cubicBezTo>
                <a:cubicBezTo>
                  <a:pt x="264" y="624"/>
                  <a:pt x="424" y="480"/>
                  <a:pt x="432" y="384"/>
                </a:cubicBezTo>
                <a:cubicBezTo>
                  <a:pt x="440" y="288"/>
                  <a:pt x="264" y="0"/>
                  <a:pt x="192" y="0"/>
                </a:cubicBezTo>
                <a:close/>
              </a:path>
            </a:pathLst>
          </a:custGeom>
          <a:solidFill>
            <a:srgbClr val="ecd882"/>
          </a:solidFill>
          <a:ln w="93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505320" y="5791320"/>
            <a:ext cx="2057400" cy="914400"/>
          </a:xfrm>
          <a:custGeom>
            <a:avLst/>
            <a:gdLst>
              <a:gd name="textAreaLeft" fmla="*/ 452160 w 2057400"/>
              <a:gd name="textAreaRight" fmla="*/ 1605240 w 2057400"/>
              <a:gd name="textAreaTop" fmla="*/ 200880 h 914400"/>
              <a:gd name="textAreaBottom" fmla="*/ 71352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7c1eb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6477120"/>
            <a:ext cx="38088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9880" y="6477120"/>
            <a:ext cx="381240" cy="38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2057400" y="3809880"/>
            <a:ext cx="685800" cy="914400"/>
            <a:chOff x="2057400" y="3809880"/>
            <a:chExt cx="685800" cy="914400"/>
          </a:xfrm>
        </p:grpSpPr>
        <p:sp>
          <p:nvSpPr>
            <p:cNvPr id="232" name=""/>
            <p:cNvSpPr/>
            <p:nvPr/>
          </p:nvSpPr>
          <p:spPr>
            <a:xfrm>
              <a:off x="2057400" y="4191120"/>
              <a:ext cx="609840" cy="5331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057400" y="3809880"/>
              <a:ext cx="685800" cy="685800"/>
            </a:xfrm>
            <a:prstGeom prst="ellipse">
              <a:avLst/>
            </a:prstGeom>
            <a:solidFill>
              <a:srgbClr val="99ccff"/>
            </a:solidFill>
            <a:ln w="381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2200320" y="3124080"/>
            <a:ext cx="63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Fluj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990720" y="4038120"/>
            <a:ext cx="1066680" cy="68580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752120"/>
            <a:ext cx="70102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8380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Filtro Prensa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990720" y="1676520"/>
            <a:ext cx="66070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OBJETIVO: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Estudiar un filtro prensa, para determinar las características de la filtración, tipo de torta, porosidad, resistencia específica, constante de filtración, Volumen equivalen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1219320" y="3886200"/>
                <a:ext cx="624816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C</m:t>
                        </m:r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C</m:t>
                    </m:r>
                    <m:f>
                      <m:num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⋅</m:t>
                        </m:r>
                        <m:r>
                          <m:t xml:space="preserve">(</m:t>
                        </m:r>
                        <m:r>
                          <m:t xml:space="preserve">−</m:t>
                        </m:r>
                        <m:r>
                          <m:t xml:space="preserve">ΔP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40" name=""/>
          <p:cNvSpPr/>
          <p:nvPr/>
        </p:nvSpPr>
        <p:spPr>
          <a:xfrm>
            <a:off x="975600" y="5791320"/>
            <a:ext cx="374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Alan Foust, George Brown, Vían-Ocan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 flipV="1">
            <a:off x="1523880" y="1752480"/>
            <a:ext cx="0" cy="373392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523880" y="5486400"/>
            <a:ext cx="533412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752480" y="3505320"/>
            <a:ext cx="30481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   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 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   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41920" y="289548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504040" y="2514600"/>
            <a:ext cx="29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40458c"/>
                </a:solidFill>
                <a:latin typeface="Tahoma"/>
              </a:rPr>
              <a:t>+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1676520" y="2133720"/>
            <a:ext cx="4800600" cy="312408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4120" y="19810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Tahoma"/>
              </a:rPr>
              <a:t>dV/d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2362320"/>
            <a:ext cx="228600" cy="0"/>
          </a:xfrm>
          <a:prstGeom prst="line">
            <a:avLst/>
          </a:prstGeom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54520" y="579132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0458c"/>
                </a:solidFill>
                <a:latin typeface="Tahoma"/>
              </a:rPr>
              <a:t>V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8080" y="990720"/>
            <a:ext cx="632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458c"/>
                </a:solidFill>
                <a:latin typeface="Tahoma"/>
              </a:rPr>
              <a:t>V  v/s  t                       Gráfico  dV/dt  v/s  V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62320" y="1219320"/>
            <a:ext cx="1523880" cy="0"/>
          </a:xfrm>
          <a:prstGeom prst="line">
            <a:avLst/>
          </a:prstGeom>
          <a:ln w="936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53" name=""/>
          <p:cNvGraphicFramePr/>
          <p:nvPr/>
        </p:nvGraphicFramePr>
        <p:xfrm>
          <a:off x="1066680" y="457200"/>
          <a:ext cx="7543800" cy="563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57200"/>
                    <a:ext cx="7543800" cy="56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filtros_prensa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61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4T02:20:09Z</dcterms:created>
  <dc:creator>Leonardo Valenzuela</dc:creator>
  <dc:description/>
  <dc:language>en-US</dc:language>
  <cp:lastModifiedBy>LI2</cp:lastModifiedBy>
  <dcterms:modified xsi:type="dcterms:W3CDTF">2007-08-08T19:05:47Z</dcterms:modified>
  <cp:revision>325</cp:revision>
  <dc:subject/>
  <dc:title>Reactor Agitado</dc:title>
</cp:coreProperties>
</file>