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C14-498B-4EA3-A673-1E85C85A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2E9-03C5-4EDE-8552-0D8864F8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F04-08A8-42B6-A5E9-F7C6DFBC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C75-BEAD-43EE-8F50-C15F1EA4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D56C-653A-457B-9B2C-F1DDD7C9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ADF7-088F-4C46-93FC-3F2C386B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CECA-3A6F-4BE3-9E06-E0A0B874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FC23-FE42-42B0-A782-80582921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DF66-39C5-4A0F-B937-29A5F854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7B39-297F-4463-9E6B-1784403B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49F3-BF0F-4BA2-ABF7-FF3D71C6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963F-3BE6-40A8-941C-891165C0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B24A-6988-404C-82F2-480F44FB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9FA7-6508-463A-A79D-73E84E6E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418C-FA41-4784-99AA-976AE63C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D276-24DC-4867-9AB1-336CCFC5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CEBB-311B-4556-843C-53D259BA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086-B70A-466F-91B6-8563F5E3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80A-080A-4505-9309-EDEE79B4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78C0-7D13-4945-AE06-1A056BA6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819D-D24F-4BD8-945E-44BE162B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BEE-5668-4214-951D-1DB0144A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B9B-0699-4111-AAF7-177133D1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07F-8A39-4E01-8064-BB5F034D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AA45-4FBB-4B96-BA7A-0528457F99B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1AA8-31B6-4B59-96B8-C15896CD50D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DCP04817" descr=""/>
          <p:cNvPicPr/>
          <p:nvPr/>
        </p:nvPicPr>
        <p:blipFill>
          <a:blip r:embed="rId1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etro%20Pow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rot="19455000">
            <a:off x="3581280" y="1447560"/>
            <a:ext cx="2286000" cy="327636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438280" y="3123720"/>
            <a:ext cx="106704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457200"/>
            <a:ext cx="1143000" cy="1600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410080" y="1371240"/>
            <a:ext cx="114300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04920" y="4648320"/>
            <a:ext cx="1218960" cy="1752120"/>
            <a:chOff x="304920" y="4648320"/>
            <a:chExt cx="1218960" cy="1752120"/>
          </a:xfrm>
        </p:grpSpPr>
        <p:sp>
          <p:nvSpPr>
            <p:cNvPr id="215" name=""/>
            <p:cNvSpPr/>
            <p:nvPr/>
          </p:nvSpPr>
          <p:spPr>
            <a:xfrm>
              <a:off x="304920" y="4648320"/>
              <a:ext cx="1218960" cy="713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4920" y="5362200"/>
              <a:ext cx="1218960" cy="10382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629400" y="1066680"/>
            <a:ext cx="1143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4343400"/>
            <a:ext cx="457200" cy="99072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781680" y="1219320"/>
            <a:ext cx="304920" cy="304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58000" y="1218960"/>
            <a:ext cx="60948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238880" y="1523520"/>
            <a:ext cx="30492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240" y="58896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12760" y="1371600"/>
            <a:ext cx="69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46800" y="1905120"/>
            <a:ext cx="68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Filt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9455000">
            <a:off x="3352320" y="1600200"/>
            <a:ext cx="2286000" cy="327672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4724280"/>
            <a:ext cx="457200" cy="99072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4876920"/>
            <a:ext cx="457200" cy="99036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5791320"/>
            <a:ext cx="2057400" cy="9144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64771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647712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057400" y="3809880"/>
            <a:ext cx="685800" cy="914400"/>
            <a:chOff x="2057400" y="3809880"/>
            <a:chExt cx="685800" cy="914400"/>
          </a:xfrm>
        </p:grpSpPr>
        <p:sp>
          <p:nvSpPr>
            <p:cNvPr id="232" name=""/>
            <p:cNvSpPr/>
            <p:nvPr/>
          </p:nvSpPr>
          <p:spPr>
            <a:xfrm>
              <a:off x="2057400" y="4191120"/>
              <a:ext cx="609840" cy="5331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7400" y="38098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200320" y="312408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Fluj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90720" y="4038120"/>
            <a:ext cx="106668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676520"/>
            <a:ext cx="660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un filtro prensa, para determinar las características de la filtración, tipo de torta, porosidad, resistencia específica, constante de filtración, Volumen equival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219320" y="3886200"/>
                <a:ext cx="6248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975600" y="57913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Alan Foust, George Brown, Vían-Oc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 flipV="1">
            <a:off x="1523880" y="17524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5486400"/>
            <a:ext cx="5334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505320"/>
            <a:ext cx="30481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41920" y="2895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04040" y="2514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76520" y="2133720"/>
            <a:ext cx="4800600" cy="3124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4120" y="19810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V/d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23623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45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9907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  v/s  t                       Gráfico  dV/dt  v/s  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1219320"/>
            <a:ext cx="15238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066680" y="457200"/>
          <a:ext cx="7543800" cy="563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7543800" cy="56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filtros_prensa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08T19:05:47Z</dcterms:modified>
  <cp:revision>325</cp:revision>
  <dc:subject/>
  <dc:title>Reactor Agitado</dc:title>
</cp:coreProperties>
</file>