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71DA-A69F-4613-9DFB-3709BED0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F8B-6C8C-4B05-AE2D-2A52C8D1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8E8-C112-4359-8D92-8740DD67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3A2-A978-481E-B81D-B9EA571E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C957-9A71-42DC-8ACC-17176C89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F360-B000-452D-B432-6C8CA7D8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B855-8439-405B-942E-1A3ABB0E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0DE4-BC25-48E8-A527-20B5EEA2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CF7A-100B-4167-A1E9-293A6BA5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A57B-E361-42E9-85AF-84D4869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1C77-5401-459D-ABD9-59B37167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971-7B50-45E7-A2AD-4B46E701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BB1B-D94F-423A-9AA6-5B784F1E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6411-CBD4-4A29-AA8F-7C174BE1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BF0E-BA18-4BB1-8EC8-95FA57FA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E883-8780-43DC-8FC9-BAB0DA09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8F56-7037-4BD7-8E5C-F5E94DEF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C1A-0E54-43BB-9C46-BD9AAD2E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8371-8EA5-47FE-988F-654EFBEF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CB0-49AA-42C6-BD2F-8A16A146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4EE-8908-4AE8-A992-6BCF9D2D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2E7-49AE-4ADF-837B-E8C9CF0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CAB-1C22-4653-A77C-32750212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525-4337-46BE-9BFE-766C68FD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F332-223A-4D67-876E-8A825EBF42C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8D68-85E4-4859-92B1-C38D18D5A1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38280" y="3123720"/>
            <a:ext cx="10670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5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34340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472428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876920"/>
            <a:ext cx="457200" cy="99036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2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8T19:05:47Z</dcterms:modified>
  <cp:revision>325</cp:revision>
  <dc:subject/>
  <dc:title>Reactor Agitado</dc:title>
</cp:coreProperties>
</file>