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89A-1CA7-4132-AF43-F4283ACC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303-6518-4B56-82EC-09253597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CD2-35A4-461D-B588-01B5EA61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8AB-5132-44A2-88E6-FECB8664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DF1-E5F0-40A9-8ABA-D1AE22B7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9A6-8270-4A7D-9244-7C33677A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88C-76EC-4EA3-9D10-435D930E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2E0-80C5-4846-B5ED-377DECE0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6B0-CEC2-4CEF-B6D2-ABB0070B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429-230E-449A-AADD-AC58F77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E42-83EF-4309-B7A8-57142AC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EF5-A0E9-4560-94D6-010CBF8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5146-4247-4C2B-92FA-E278B0096F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7-08-06T22:34:24Z</dcterms:modified>
  <cp:revision>9</cp:revision>
  <dc:subject/>
  <dc:title>Presentación de PowerPoint</dc:title>
</cp:coreProperties>
</file>