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0B8-C7BD-4E53-AB1E-5F922064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6A5-B8B0-4430-A1A4-8B42B2D0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EDE-CF04-4787-8D59-96F51694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5B2-065E-4CEF-8D78-CE67C34A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8BCC-A703-4546-AE73-30C1AFB5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679B-C644-4C43-9612-AD9FDF89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BAF7-4456-417A-A5D3-CCFCFB13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E3C1-16CD-4D87-AC5F-15804F2C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F81D-119B-4C24-B9CA-126B4D17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B1AB-8029-4ECD-9D28-AA8F57B4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A46C-85CF-4036-9369-B584E330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6F7-77EA-4C35-874D-B35981AD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2017-B778-4F5B-A046-DB37424B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7C00-9D80-44A3-BC86-038AD8D0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D1EB-A12A-436F-AE4E-AA6CE8A6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99BA-C7D6-469A-883A-1EE0828E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9E75-934B-4574-840F-90EE0575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851B5-1486-4760-85DF-A1120C83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6094-90E3-447F-97BF-0BDE6AA9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BFAB-9690-4D00-8F72-E97D8F3E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0F44E-380B-49C4-B160-320C6E4C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150D4-7E21-4BB3-B44E-B757C0D6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695-4D4B-4A33-AE5C-1C6C6651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E057F-5160-49FA-B3DB-A0DCBAD0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00750-3ABC-409A-9D4E-459A2DFB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6A39B-7F98-4514-83BD-6C20321E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B4183-E3F6-4263-9A97-77464FBA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12E2A-CA06-40C0-AA96-16BF989E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D3E73-EDF7-4E8F-8219-2068FEB2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00DC-20F4-444F-9147-43BC5C1A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6538E-3174-4526-B422-3574B156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20640-2C52-4F9E-BCC2-8E829F60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668B8-227D-4C09-A883-A0E51B7B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A00-F48D-4335-BB76-34503F02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7EBD3-9BD5-49C4-8CFD-5B852C58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860EC-8C95-4590-AA0B-37D5DE1A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DCF1F-7BD5-486E-8207-37930895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C89B2-6F67-40C7-BBE6-5BAA403F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16F4-3F73-46C8-AA8C-AFF8D3C7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81B91-D025-4E88-9ACE-EBB7E361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923ED-08C4-451A-B61B-8DE2131C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16428-C668-4853-9FEE-99B5BC0E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6E5E-A887-48D3-9809-F8E4BA53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126-DA42-41D9-AB72-7197F352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E08-D040-4A3E-BA7E-EB3EAA2F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043-00B0-4A18-A3B2-7F2AD3CA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8338-F5BC-44AB-BC1C-110F1E30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C56-DE32-4CE2-886D-D7E40FA2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44AB-FE4D-45D3-966B-D3FF3131756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2488-405F-4132-8905-CF63B0B7105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8371-FE7B-42E3-8FE7-A67DE728D97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1D3C-4FA1-47A7-809D-6EC99F63E57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1"/>
          <a:stretch/>
        </p:blipFill>
        <p:spPr>
          <a:xfrm>
            <a:off x="341280" y="1365120"/>
            <a:ext cx="83692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4 CuadroTexto"/>
          <p:cNvSpPr/>
          <p:nvPr/>
        </p:nvSpPr>
        <p:spPr>
          <a:xfrm>
            <a:off x="6286680" y="1071720"/>
            <a:ext cx="228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Ventana de comand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99" name="6 Conector recto de flecha"/>
          <p:cNvCxnSpPr>
            <a:stCxn id="198" idx="1"/>
          </p:cNvCxnSpPr>
          <p:nvPr/>
        </p:nvCxnSpPr>
        <p:spPr>
          <a:xfrm flipH="1" flipV="1">
            <a:off x="3514320" y="931320"/>
            <a:ext cx="2772720" cy="324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0" name="7 CuadroTexto"/>
          <p:cNvSpPr/>
          <p:nvPr/>
        </p:nvSpPr>
        <p:spPr>
          <a:xfrm>
            <a:off x="357120" y="2571840"/>
            <a:ext cx="1714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Objetos cread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1" name="9 Conector recto de flecha"/>
          <p:cNvCxnSpPr>
            <a:stCxn id="200" idx="0"/>
          </p:cNvCxnSpPr>
          <p:nvPr/>
        </p:nvCxnSpPr>
        <p:spPr>
          <a:xfrm flipV="1">
            <a:off x="1212840" y="1856520"/>
            <a:ext cx="2160" cy="715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2" name="10 CuadroTexto"/>
          <p:cNvSpPr/>
          <p:nvPr/>
        </p:nvSpPr>
        <p:spPr>
          <a:xfrm>
            <a:off x="71280" y="5500800"/>
            <a:ext cx="228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Ventana de comand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3" name="12 Conector recto de flecha"/>
          <p:cNvCxnSpPr>
            <a:stCxn id="202" idx="0"/>
          </p:cNvCxnSpPr>
          <p:nvPr/>
        </p:nvCxnSpPr>
        <p:spPr>
          <a:xfrm flipH="1" flipV="1">
            <a:off x="856800" y="3999960"/>
            <a:ext cx="357840" cy="1500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4" name="13 CuadroTexto"/>
          <p:cNvSpPr/>
          <p:nvPr/>
        </p:nvSpPr>
        <p:spPr>
          <a:xfrm>
            <a:off x="5286240" y="1643040"/>
            <a:ext cx="857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scala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14 CuadroTexto"/>
          <p:cNvSpPr/>
          <p:nvPr/>
        </p:nvSpPr>
        <p:spPr>
          <a:xfrm>
            <a:off x="5286240" y="2714760"/>
            <a:ext cx="785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triz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15 CuadroTexto"/>
          <p:cNvSpPr/>
          <p:nvPr/>
        </p:nvSpPr>
        <p:spPr>
          <a:xfrm>
            <a:off x="5286240" y="3857760"/>
            <a:ext cx="2500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Operación escalar matriz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16 CuadroTexto"/>
          <p:cNvSpPr/>
          <p:nvPr/>
        </p:nvSpPr>
        <p:spPr>
          <a:xfrm>
            <a:off x="5286240" y="4929120"/>
            <a:ext cx="2286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Operación de matric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17 CuadroTexto"/>
          <p:cNvSpPr/>
          <p:nvPr/>
        </p:nvSpPr>
        <p:spPr>
          <a:xfrm>
            <a:off x="5286240" y="5929200"/>
            <a:ext cx="1643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roducto pu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9" name="19 Conector recto de flecha"/>
          <p:cNvCxnSpPr>
            <a:stCxn id="204" idx="1"/>
          </p:cNvCxnSpPr>
          <p:nvPr/>
        </p:nvCxnSpPr>
        <p:spPr>
          <a:xfrm flipH="1">
            <a:off x="3071160" y="1826280"/>
            <a:ext cx="2215080" cy="3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22 Conector recto de flecha"/>
          <p:cNvCxnSpPr>
            <a:stCxn id="205" idx="1"/>
          </p:cNvCxnSpPr>
          <p:nvPr/>
        </p:nvCxnSpPr>
        <p:spPr>
          <a:xfrm flipH="1">
            <a:off x="3928680" y="2898720"/>
            <a:ext cx="1357920" cy="102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24 Conector recto de flecha"/>
          <p:cNvCxnSpPr>
            <a:stCxn id="206" idx="1"/>
          </p:cNvCxnSpPr>
          <p:nvPr/>
        </p:nvCxnSpPr>
        <p:spPr>
          <a:xfrm flipH="1">
            <a:off x="3857400" y="4041720"/>
            <a:ext cx="1429200" cy="3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26 Conector recto de flecha"/>
          <p:cNvCxnSpPr>
            <a:stCxn id="207" idx="1"/>
          </p:cNvCxnSpPr>
          <p:nvPr/>
        </p:nvCxnSpPr>
        <p:spPr>
          <a:xfrm flipH="1" flipV="1">
            <a:off x="3499560" y="5071680"/>
            <a:ext cx="1786680" cy="41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3" name="28 Conector recto de flecha"/>
          <p:cNvCxnSpPr>
            <a:stCxn id="208" idx="1"/>
          </p:cNvCxnSpPr>
          <p:nvPr/>
        </p:nvCxnSpPr>
        <p:spPr>
          <a:xfrm flipH="1" flipV="1">
            <a:off x="3857400" y="6071760"/>
            <a:ext cx="1429200" cy="41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4 CuadroTexto"/>
          <p:cNvSpPr/>
          <p:nvPr/>
        </p:nvSpPr>
        <p:spPr>
          <a:xfrm>
            <a:off x="5429160" y="1357200"/>
            <a:ext cx="2000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atrices especia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5 CuadroTexto"/>
          <p:cNvSpPr/>
          <p:nvPr/>
        </p:nvSpPr>
        <p:spPr>
          <a:xfrm>
            <a:off x="5429160" y="3071880"/>
            <a:ext cx="27860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finición útil de matriz fil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6 CuadroTexto"/>
          <p:cNvSpPr/>
          <p:nvPr/>
        </p:nvSpPr>
        <p:spPr>
          <a:xfrm>
            <a:off x="5429160" y="4857840"/>
            <a:ext cx="2571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Funciones sobre matric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0" name="8 Conector recto de flecha"/>
          <p:cNvCxnSpPr>
            <a:stCxn id="217" idx="1"/>
          </p:cNvCxnSpPr>
          <p:nvPr/>
        </p:nvCxnSpPr>
        <p:spPr>
          <a:xfrm flipH="1" flipV="1">
            <a:off x="3357720" y="1499760"/>
            <a:ext cx="2071800" cy="41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1" name="10 Conector recto de flecha"/>
          <p:cNvCxnSpPr>
            <a:stCxn id="217" idx="1"/>
          </p:cNvCxnSpPr>
          <p:nvPr/>
        </p:nvCxnSpPr>
        <p:spPr>
          <a:xfrm flipH="1">
            <a:off x="3357720" y="1540440"/>
            <a:ext cx="2071800" cy="959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2" name="12 Conector recto de flecha"/>
          <p:cNvCxnSpPr>
            <a:stCxn id="218" idx="1"/>
          </p:cNvCxnSpPr>
          <p:nvPr/>
        </p:nvCxnSpPr>
        <p:spPr>
          <a:xfrm flipH="1">
            <a:off x="3428640" y="3255840"/>
            <a:ext cx="2000880" cy="3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14 Conector recto de flecha"/>
          <p:cNvCxnSpPr>
            <a:stCxn id="219" idx="1"/>
          </p:cNvCxnSpPr>
          <p:nvPr/>
        </p:nvCxnSpPr>
        <p:spPr>
          <a:xfrm flipH="1" flipV="1">
            <a:off x="3214080" y="4142880"/>
            <a:ext cx="2215080" cy="899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16 Conector recto de flecha"/>
          <p:cNvCxnSpPr>
            <a:stCxn id="219" idx="1"/>
          </p:cNvCxnSpPr>
          <p:nvPr/>
        </p:nvCxnSpPr>
        <p:spPr>
          <a:xfrm flipH="1">
            <a:off x="3214080" y="5041800"/>
            <a:ext cx="2215080" cy="3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5 CuadroTexto"/>
          <p:cNvSpPr/>
          <p:nvPr/>
        </p:nvSpPr>
        <p:spPr>
          <a:xfrm>
            <a:off x="2214720" y="3143160"/>
            <a:ext cx="2071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ditor de Comand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29" name="7 Conector recto de flecha"/>
          <p:cNvCxnSpPr/>
          <p:nvPr/>
        </p:nvCxnSpPr>
        <p:spPr>
          <a:xfrm flipH="1" flipV="1">
            <a:off x="142560" y="570960"/>
            <a:ext cx="2358000" cy="257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0" name="9 Conector recto de flecha"/>
          <p:cNvCxnSpPr/>
          <p:nvPr/>
        </p:nvCxnSpPr>
        <p:spPr>
          <a:xfrm flipH="1">
            <a:off x="1642320" y="3499920"/>
            <a:ext cx="857880" cy="264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4 CuadroTexto"/>
          <p:cNvSpPr/>
          <p:nvPr/>
        </p:nvSpPr>
        <p:spPr>
          <a:xfrm>
            <a:off x="6357960" y="5214960"/>
            <a:ext cx="2214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finición de func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5 CuadroTexto"/>
          <p:cNvSpPr/>
          <p:nvPr/>
        </p:nvSpPr>
        <p:spPr>
          <a:xfrm>
            <a:off x="785880" y="1714680"/>
            <a:ext cx="17859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Resultado gráf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6 CuadroTexto"/>
          <p:cNvSpPr/>
          <p:nvPr/>
        </p:nvSpPr>
        <p:spPr>
          <a:xfrm>
            <a:off x="214200" y="2428920"/>
            <a:ext cx="2071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Set de instruccio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7 Elipse"/>
          <p:cNvSpPr/>
          <p:nvPr/>
        </p:nvSpPr>
        <p:spPr>
          <a:xfrm>
            <a:off x="2786040" y="214200"/>
            <a:ext cx="357192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8 CuadroTexto"/>
          <p:cNvSpPr/>
          <p:nvPr/>
        </p:nvSpPr>
        <p:spPr>
          <a:xfrm>
            <a:off x="142920" y="642960"/>
            <a:ext cx="2571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efinir “lugar de trabajo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39" name="10 Forma"/>
          <p:cNvCxnSpPr>
            <a:stCxn id="238" idx="0"/>
          </p:cNvCxnSpPr>
          <p:nvPr/>
        </p:nvCxnSpPr>
        <p:spPr>
          <a:xfrm flipH="1" flipV="1" rot="5400000">
            <a:off x="1928520" y="-143280"/>
            <a:ext cx="286560" cy="12866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0" name="12 Conector recto de flecha"/>
          <p:cNvCxnSpPr>
            <a:stCxn id="235" idx="3"/>
          </p:cNvCxnSpPr>
          <p:nvPr/>
        </p:nvCxnSpPr>
        <p:spPr>
          <a:xfrm>
            <a:off x="2571480" y="1898640"/>
            <a:ext cx="2143800" cy="30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1" name="16 Conector recto de flecha"/>
          <p:cNvCxnSpPr>
            <a:stCxn id="234" idx="1"/>
          </p:cNvCxnSpPr>
          <p:nvPr/>
        </p:nvCxnSpPr>
        <p:spPr>
          <a:xfrm flipH="1" flipV="1">
            <a:off x="5571360" y="5000400"/>
            <a:ext cx="786600" cy="398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20 Conector recto de flecha"/>
          <p:cNvCxnSpPr/>
          <p:nvPr/>
        </p:nvCxnSpPr>
        <p:spPr>
          <a:xfrm flipH="1">
            <a:off x="1569240" y="2785680"/>
            <a:ext cx="2520" cy="429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5 CuadroTexto"/>
          <p:cNvSpPr/>
          <p:nvPr/>
        </p:nvSpPr>
        <p:spPr>
          <a:xfrm>
            <a:off x="2571840" y="4071960"/>
            <a:ext cx="3071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En caso de problemas, la mejor ayuda… lej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7" name="7 Conector recto de flecha"/>
          <p:cNvCxnSpPr/>
          <p:nvPr/>
        </p:nvCxnSpPr>
        <p:spPr>
          <a:xfrm flipV="1">
            <a:off x="3141720" y="1213920"/>
            <a:ext cx="2160" cy="2859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8" name="9 Conector recto de flecha"/>
          <p:cNvCxnSpPr>
            <a:stCxn id="246" idx="1"/>
          </p:cNvCxnSpPr>
          <p:nvPr/>
        </p:nvCxnSpPr>
        <p:spPr>
          <a:xfrm flipH="1">
            <a:off x="928440" y="4486680"/>
            <a:ext cx="1643760" cy="1870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4721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070c0"/>
                </a:solidFill>
                <a:latin typeface="Calibri"/>
              </a:rPr>
              <a:t>Ejemplo: Michaelis - Mente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428840"/>
            <a:ext cx="26146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70c0"/>
                </a:solidFill>
                <a:latin typeface="Constantia"/>
              </a:rPr>
              <a:t>Modelo Cinétic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"/>
              <p:cNvSpPr txBox="1"/>
              <p:nvPr/>
            </p:nvSpPr>
            <p:spPr>
              <a:xfrm>
                <a:off x="500040" y="2071800"/>
                <a:ext cx="2205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S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  <m:r>
                          <m:t xml:space="preserve">1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500040" y="2643120"/>
                <a:ext cx="2265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  <m:r>
                          <m:t xml:space="preserve">2</m:t>
                        </m:r>
                      </m:e>
                    </m:acc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500040" y="3214800"/>
                <a:ext cx="2224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  <m:r>
                          <m:t xml:space="preserve">3</m:t>
                        </m:r>
                      </m:e>
                    </m:acc>
                    <m:r>
                      <m:t xml:space="preserve">E</m:t>
                    </m:r>
                    <m:r>
                      <m:t xml:space="preserve">+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4121280" y="1714680"/>
                <a:ext cx="27367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4049640" y="2320920"/>
                <a:ext cx="4094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1"/>
              <p:cNvSpPr txBox="1"/>
              <p:nvPr/>
            </p:nvSpPr>
            <p:spPr>
              <a:xfrm>
                <a:off x="4121280" y="2928960"/>
                <a:ext cx="3879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E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13"/>
              <p:cNvSpPr txBox="1"/>
              <p:nvPr/>
            </p:nvSpPr>
            <p:spPr>
              <a:xfrm>
                <a:off x="4121280" y="3500280"/>
                <a:ext cx="1593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17 Flecha derecha"/>
          <p:cNvSpPr/>
          <p:nvPr/>
        </p:nvSpPr>
        <p:spPr>
          <a:xfrm>
            <a:off x="3000240" y="25002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2 Marcador de contenido"/>
          <p:cNvSpPr/>
          <p:nvPr/>
        </p:nvSpPr>
        <p:spPr>
          <a:xfrm>
            <a:off x="428760" y="4286160"/>
            <a:ext cx="6429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70c0"/>
                </a:solidFill>
                <a:latin typeface="Constantia"/>
              </a:rPr>
              <a:t>Cuasi Estacionalida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19 Flecha derecha"/>
          <p:cNvSpPr/>
          <p:nvPr/>
        </p:nvSpPr>
        <p:spPr>
          <a:xfrm>
            <a:off x="3000240" y="53578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15"/>
              <p:cNvSpPr txBox="1"/>
              <p:nvPr/>
            </p:nvSpPr>
            <p:spPr>
              <a:xfrm>
                <a:off x="1071720" y="4929120"/>
                <a:ext cx="1379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6"/>
              <p:cNvSpPr txBox="1"/>
              <p:nvPr/>
            </p:nvSpPr>
            <p:spPr>
              <a:xfrm>
                <a:off x="642960" y="6000840"/>
                <a:ext cx="2357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o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E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20"/>
              <p:cNvSpPr txBox="1"/>
              <p:nvPr/>
            </p:nvSpPr>
            <p:spPr>
              <a:xfrm>
                <a:off x="4500720" y="4929120"/>
                <a:ext cx="41432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9"/>
              <p:cNvSpPr txBox="1"/>
              <p:nvPr/>
            </p:nvSpPr>
            <p:spPr>
              <a:xfrm>
                <a:off x="4500720" y="5872320"/>
                <a:ext cx="16430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2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4456440" y="732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4464000" y="12106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747216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500" spc="-1" strike="noStrike">
                <a:solidFill>
                  <a:srgbClr val="0070c0"/>
                </a:solidFill>
                <a:latin typeface="Calibri"/>
              </a:rPr>
              <a:t>Resultados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428840"/>
            <a:ext cx="2614680" cy="4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70c0"/>
                </a:solidFill>
                <a:latin typeface="Constantia"/>
              </a:rPr>
              <a:t>Modelo Cinétic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4456440" y="7326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4464000" y="12106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13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"/>
          <p:cNvPicPr/>
          <p:nvPr/>
        </p:nvPicPr>
        <p:blipFill>
          <a:blip r:embed="rId2"/>
          <a:stretch/>
        </p:blipFill>
        <p:spPr>
          <a:xfrm>
            <a:off x="4286160" y="18572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89" name="29 CuadroTexto"/>
          <p:cNvSpPr/>
          <p:nvPr/>
        </p:nvSpPr>
        <p:spPr>
          <a:xfrm>
            <a:off x="1357200" y="528624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K1 = K2 = 0.005; K3 = 0.1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03:13:25Z</dcterms:created>
  <dc:creator>todos</dc:creator>
  <dc:description/>
  <dc:language>en-US</dc:language>
  <cp:lastModifiedBy>todos</cp:lastModifiedBy>
  <dcterms:modified xsi:type="dcterms:W3CDTF">2007-10-25T06:12:55Z</dcterms:modified>
  <cp:revision>18</cp:revision>
  <dc:subject/>
  <dc:title>Diapositiva 1</dc:title>
</cp:coreProperties>
</file>