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A9D-C8F1-44BF-AE9F-01046A43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8A3-6C08-48D9-B199-20326F2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481-2198-4D24-9E33-9892A635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2AB-724A-4CE8-BD5C-2CFAA871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E3D-D78C-4A27-BBBA-DAEA753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2D6-5ED5-4F67-821A-1CC4C27C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6E8-BDBE-48C2-8660-C26F7D9F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CBC-FD8B-411B-8931-9B77C04D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38F-966F-48F4-9342-B02F6C8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2D0-358D-4630-956E-DD35C31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DD9-CC8C-4336-BBBE-DBB1C20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95A-65E2-4B67-AB6B-9FA2F35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8CA-5154-4BA5-AA92-71CE7A721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24480" y="1571760"/>
                <a:ext cx="347508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6:05:15Z</dcterms:modified>
  <cp:revision>22</cp:revision>
  <dc:subject/>
  <dc:title>Presentación de PowerPoint</dc:title>
</cp:coreProperties>
</file>