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588-27CF-4D58-9C74-D599191F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1CE-533B-45C1-A64B-8F3C9878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2A1-CB53-4B9C-AC8E-D5649D06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26D-5E28-427C-9AC4-95114229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7E2-91C2-4246-8E2A-32FC32E0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71A-8AFD-4359-8116-34EE17A2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61B-0F3F-46DF-BE7F-D4B510D1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CD8-0AB4-46F2-836D-EFA15CFB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9B6-2A31-4F94-AEC3-642590FA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D04-7629-486C-8C0A-A143791B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840-103B-434B-8F49-BF746F96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E60-CD94-4DC6-B44B-E2296DE2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BFD0-78C2-4F53-8BD7-5359425DA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24480" y="1571760"/>
                <a:ext cx="3475080" cy="21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academico</cp:lastModifiedBy>
  <dcterms:modified xsi:type="dcterms:W3CDTF">2007-09-25T16:05:15Z</dcterms:modified>
  <cp:revision>22</cp:revision>
  <dc:subject/>
  <dc:title>Presentación de PowerPoint</dc:title>
</cp:coreProperties>
</file>