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D02-CC92-4CD5-A076-7D4CD793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735-FBC6-4E01-AD2B-8C66EA65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BF2-C167-456B-9469-FDC94D73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C49-D823-44CE-907B-F442CF7E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416-594E-48CA-833A-79A2D254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C20-A5D2-4625-A5ED-1A592E41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AED-E3B2-46B2-8622-BE1B3B5E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31C-C8AE-4109-BB45-F6351C9D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7BB-5C3D-4BE8-AC72-F07F0919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047-B445-4448-8D17-DFFAD467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18F-CFB8-435A-988A-627EB6A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DE6-2445-4DE2-AA8F-593A2652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314C-FBA9-4444-B7EF-C9A11D867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24480" y="1571760"/>
                <a:ext cx="3475080" cy="21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6:05:15Z</dcterms:modified>
  <cp:revision>22</cp:revision>
  <dc:subject/>
  <dc:title>Presentación de PowerPoint</dc:title>
</cp:coreProperties>
</file>