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4AA-7509-40D1-8EB8-1E6D5FA7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AD4-FDBB-4AD9-ACB1-E84FA63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4A2-831C-467E-8081-9E1BCDA5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861-A53F-4E30-95B4-31427BB8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939-56CF-48B0-AB97-2E14943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A6E-D8CB-4DA7-AC14-4F1B2EF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906-472F-4F96-8963-0ED313C1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D2F-8ABF-4016-8E11-3CB36EF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6C6-C2FF-4C68-B3B4-54549D07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D6C-6A06-4267-8F4A-AEC1E3C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E14-5381-43F2-8FDA-58E190A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891-7C5B-44BD-B0FD-8FD0540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0408-E7B7-435B-8409-04CBB7F8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24480" y="1571760"/>
                <a:ext cx="347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6:05:15Z</dcterms:modified>
  <cp:revision>22</cp:revision>
  <dc:subject/>
  <dc:title>Presentación de PowerPoint</dc:title>
</cp:coreProperties>
</file>