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83E4-0FFB-4362-8CAE-9D17EE3EE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9A83-C004-4456-ACB3-6A577C581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8039-7EC5-4376-A509-F550733D0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A707-6E39-428E-B877-255860596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7645-A8DA-4D30-B0AB-5C2D2DF8F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426B-91CE-4791-BDA2-60B64D164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C092-0F3E-4A7B-963A-CBCCD0253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B0C1-95D0-4B52-83C8-561757A61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227D-99D3-4335-ADC7-000BA532E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DEEC-8916-420B-A64F-4DC218740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4837-7545-4EBC-AB28-C00E52A07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EA7C-DA0A-43C8-BAD7-33D3740F8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1315B-7039-4153-B0C4-24E3A19401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Q46B – Operaciones de Transferencia I</a:t>
            </a:r>
            <a:br>
              <a:rPr sz="2800"/>
            </a:br>
            <a:br>
              <a:rPr sz="1400"/>
            </a:b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ofesor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más Varg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98840" y="2708280"/>
            <a:ext cx="747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ADIACIÓN – MÓDULO 6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LUJO DE RADIACIÓN ENTRE SUPERFI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E ÁREA FIN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54040" y="260280"/>
            <a:ext cx="7978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ta ahora hemos considerado que toda la radiación emitida por cada cuerpo es recibida por el otr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 embargo, en Ingeniería los cuerpos tienen área finita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00720" y="1413000"/>
            <a:ext cx="0" cy="431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917720"/>
            <a:ext cx="7978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Sólo una fracción de la energía irradiada por uno de los cuerpos es recibida por el otr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Tahoma"/>
              </a:rPr>
              <a:t>Factor de visión (o de forma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2895480" y="3084480"/>
                <a:ext cx="34768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 rot="20616600">
            <a:off x="2557080" y="4763880"/>
            <a:ext cx="1295280" cy="1041120"/>
          </a:xfrm>
          <a:custGeom>
            <a:avLst/>
            <a:gdLst/>
            <a:ahLst/>
            <a:rect l="l" t="t" r="r" b="b"/>
            <a:pathLst>
              <a:path w="654" h="459">
                <a:moveTo>
                  <a:pt x="30" y="83"/>
                </a:moveTo>
                <a:cubicBezTo>
                  <a:pt x="81" y="45"/>
                  <a:pt x="40" y="68"/>
                  <a:pt x="114" y="53"/>
                </a:cubicBezTo>
                <a:cubicBezTo>
                  <a:pt x="180" y="40"/>
                  <a:pt x="254" y="20"/>
                  <a:pt x="318" y="0"/>
                </a:cubicBezTo>
                <a:cubicBezTo>
                  <a:pt x="447" y="6"/>
                  <a:pt x="473" y="10"/>
                  <a:pt x="576" y="38"/>
                </a:cubicBezTo>
                <a:cubicBezTo>
                  <a:pt x="605" y="57"/>
                  <a:pt x="613" y="82"/>
                  <a:pt x="637" y="106"/>
                </a:cubicBezTo>
                <a:cubicBezTo>
                  <a:pt x="642" y="126"/>
                  <a:pt x="654" y="146"/>
                  <a:pt x="652" y="167"/>
                </a:cubicBezTo>
                <a:cubicBezTo>
                  <a:pt x="645" y="223"/>
                  <a:pt x="643" y="314"/>
                  <a:pt x="591" y="348"/>
                </a:cubicBezTo>
                <a:cubicBezTo>
                  <a:pt x="574" y="402"/>
                  <a:pt x="511" y="417"/>
                  <a:pt x="462" y="432"/>
                </a:cubicBezTo>
                <a:cubicBezTo>
                  <a:pt x="447" y="437"/>
                  <a:pt x="432" y="442"/>
                  <a:pt x="417" y="447"/>
                </a:cubicBezTo>
                <a:cubicBezTo>
                  <a:pt x="409" y="450"/>
                  <a:pt x="394" y="455"/>
                  <a:pt x="394" y="455"/>
                </a:cubicBezTo>
                <a:cubicBezTo>
                  <a:pt x="251" y="449"/>
                  <a:pt x="222" y="459"/>
                  <a:pt x="121" y="424"/>
                </a:cubicBezTo>
                <a:cubicBezTo>
                  <a:pt x="110" y="416"/>
                  <a:pt x="85" y="400"/>
                  <a:pt x="76" y="386"/>
                </a:cubicBezTo>
                <a:cubicBezTo>
                  <a:pt x="46" y="336"/>
                  <a:pt x="92" y="389"/>
                  <a:pt x="53" y="348"/>
                </a:cubicBezTo>
                <a:cubicBezTo>
                  <a:pt x="33" y="293"/>
                  <a:pt x="20" y="237"/>
                  <a:pt x="0" y="182"/>
                </a:cubicBezTo>
                <a:cubicBezTo>
                  <a:pt x="10" y="153"/>
                  <a:pt x="8" y="129"/>
                  <a:pt x="45" y="129"/>
                </a:cubicBezTo>
                <a:lnTo>
                  <a:pt x="30" y="83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9618800">
            <a:off x="5579640" y="4721400"/>
            <a:ext cx="1254240" cy="923760"/>
          </a:xfrm>
          <a:custGeom>
            <a:avLst/>
            <a:gdLst/>
            <a:ahLst/>
            <a:rect l="l" t="t" r="r" b="b"/>
            <a:pathLst>
              <a:path w="654" h="459">
                <a:moveTo>
                  <a:pt x="30" y="83"/>
                </a:moveTo>
                <a:cubicBezTo>
                  <a:pt x="81" y="45"/>
                  <a:pt x="40" y="68"/>
                  <a:pt x="114" y="53"/>
                </a:cubicBezTo>
                <a:cubicBezTo>
                  <a:pt x="180" y="40"/>
                  <a:pt x="254" y="20"/>
                  <a:pt x="318" y="0"/>
                </a:cubicBezTo>
                <a:cubicBezTo>
                  <a:pt x="447" y="6"/>
                  <a:pt x="473" y="10"/>
                  <a:pt x="576" y="38"/>
                </a:cubicBezTo>
                <a:cubicBezTo>
                  <a:pt x="605" y="57"/>
                  <a:pt x="613" y="82"/>
                  <a:pt x="637" y="106"/>
                </a:cubicBezTo>
                <a:cubicBezTo>
                  <a:pt x="642" y="126"/>
                  <a:pt x="654" y="146"/>
                  <a:pt x="652" y="167"/>
                </a:cubicBezTo>
                <a:cubicBezTo>
                  <a:pt x="645" y="223"/>
                  <a:pt x="643" y="314"/>
                  <a:pt x="591" y="348"/>
                </a:cubicBezTo>
                <a:cubicBezTo>
                  <a:pt x="574" y="402"/>
                  <a:pt x="511" y="417"/>
                  <a:pt x="462" y="432"/>
                </a:cubicBezTo>
                <a:cubicBezTo>
                  <a:pt x="447" y="437"/>
                  <a:pt x="432" y="442"/>
                  <a:pt x="417" y="447"/>
                </a:cubicBezTo>
                <a:cubicBezTo>
                  <a:pt x="409" y="450"/>
                  <a:pt x="394" y="455"/>
                  <a:pt x="394" y="455"/>
                </a:cubicBezTo>
                <a:cubicBezTo>
                  <a:pt x="251" y="449"/>
                  <a:pt x="222" y="459"/>
                  <a:pt x="121" y="424"/>
                </a:cubicBezTo>
                <a:cubicBezTo>
                  <a:pt x="110" y="416"/>
                  <a:pt x="85" y="400"/>
                  <a:pt x="76" y="386"/>
                </a:cubicBezTo>
                <a:cubicBezTo>
                  <a:pt x="46" y="336"/>
                  <a:pt x="92" y="389"/>
                  <a:pt x="53" y="348"/>
                </a:cubicBezTo>
                <a:cubicBezTo>
                  <a:pt x="33" y="293"/>
                  <a:pt x="20" y="237"/>
                  <a:pt x="0" y="182"/>
                </a:cubicBezTo>
                <a:cubicBezTo>
                  <a:pt x="10" y="153"/>
                  <a:pt x="8" y="129"/>
                  <a:pt x="45" y="129"/>
                </a:cubicBezTo>
                <a:lnTo>
                  <a:pt x="30" y="83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3203640" y="5157360"/>
            <a:ext cx="309708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3203640" y="4436640"/>
            <a:ext cx="288720" cy="863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0000" y="4581000"/>
            <a:ext cx="720720" cy="576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7920" y="4968720"/>
            <a:ext cx="216000" cy="420840"/>
          </a:xfrm>
          <a:custGeom>
            <a:avLst/>
            <a:gdLst/>
            <a:ahLst/>
            <a:rect l="l" t="t" r="r" b="b"/>
            <a:pathLst>
              <a:path w="136" h="265">
                <a:moveTo>
                  <a:pt x="0" y="0"/>
                </a:moveTo>
                <a:cubicBezTo>
                  <a:pt x="50" y="15"/>
                  <a:pt x="42" y="34"/>
                  <a:pt x="76" y="68"/>
                </a:cubicBezTo>
                <a:cubicBezTo>
                  <a:pt x="92" y="121"/>
                  <a:pt x="71" y="61"/>
                  <a:pt x="98" y="113"/>
                </a:cubicBezTo>
                <a:cubicBezTo>
                  <a:pt x="113" y="143"/>
                  <a:pt x="118" y="180"/>
                  <a:pt x="129" y="212"/>
                </a:cubicBezTo>
                <a:cubicBezTo>
                  <a:pt x="136" y="260"/>
                  <a:pt x="136" y="242"/>
                  <a:pt x="136" y="26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00840" y="4896000"/>
            <a:ext cx="135000" cy="420480"/>
          </a:xfrm>
          <a:custGeom>
            <a:avLst/>
            <a:gdLst/>
            <a:ahLst/>
            <a:rect l="l" t="t" r="r" b="b"/>
            <a:pathLst>
              <a:path w="85" h="265">
                <a:moveTo>
                  <a:pt x="85" y="0"/>
                </a:moveTo>
                <a:cubicBezTo>
                  <a:pt x="71" y="41"/>
                  <a:pt x="46" y="72"/>
                  <a:pt x="32" y="114"/>
                </a:cubicBezTo>
                <a:cubicBezTo>
                  <a:pt x="27" y="129"/>
                  <a:pt x="22" y="144"/>
                  <a:pt x="17" y="159"/>
                </a:cubicBezTo>
                <a:cubicBezTo>
                  <a:pt x="14" y="167"/>
                  <a:pt x="9" y="182"/>
                  <a:pt x="9" y="182"/>
                </a:cubicBezTo>
                <a:cubicBezTo>
                  <a:pt x="0" y="240"/>
                  <a:pt x="2" y="212"/>
                  <a:pt x="2" y="26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73520" y="52293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84720" y="3998880"/>
            <a:ext cx="3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292720" y="4149720"/>
            <a:ext cx="39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5678640" y="4724280"/>
                <a:ext cx="33336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3432240" y="4867200"/>
                <a:ext cx="30780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2059920" y="5084640"/>
            <a:ext cx="53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A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761160" y="4869000"/>
            <a:ext cx="547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A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54040" y="1087560"/>
            <a:ext cx="797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 tiene que: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1460520" y="1760400"/>
                <a:ext cx="617688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  <m:supHide m:val="1"/>
                      </m:naryPr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/>
                      <m:e>
                        <m:nary>
                          <m:naryPr>
                            <m:chr m:val="∫"/>
                            <m:supHide m:val="1"/>
                          </m:naryPr>
                          <m: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  <m:sup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sSub>
                                  <m:e>
                                    <m:r>
                                      <m:t xml:space="preserve">φ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sSub>
                                  <m:e>
                                    <m:r>
                                      <m:t xml:space="preserve">φ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π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nary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1476360" y="3129120"/>
                <a:ext cx="6235560" cy="109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  <m:supHide m:val="1"/>
                      </m:naryPr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/>
                      <m:e>
                        <m:nary>
                          <m:naryPr>
                            <m:chr m:val="∫"/>
                            <m:supHide m:val="1"/>
                          </m:naryPr>
                          <m: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  <m:sup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sSub>
                                  <m:e>
                                    <m:r>
                                      <m:t xml:space="preserve">φ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sSub>
                                  <m:e>
                                    <m:r>
                                      <m:t xml:space="preserve">φ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π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nary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3117960" y="4683240"/>
                <a:ext cx="281628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122400" y="223920"/>
            <a:ext cx="797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1.1.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Factores de visión entre cuerpos negros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002040" y="5300640"/>
            <a:ext cx="33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relación de reciproc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11280" y="189000"/>
            <a:ext cx="7978680" cy="51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 u="sng">
                <a:solidFill>
                  <a:srgbClr val="000000"/>
                </a:solidFill>
                <a:uFillTx/>
                <a:latin typeface="Tahoma"/>
              </a:rPr>
              <a:t>Casos de configuraciones típic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uperficies con formas de discos, cuadrados y rectángulos, colocados en forma paralela a cierta distancia entre sí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uperficies con formas de discos, cuadrados y rectángulos, colocados en forma paralela a cierta distancia entre sí, pero conectados por paredes rerreadiantes, adiabáticas o refractari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305080" y="1844640"/>
            <a:ext cx="142920" cy="1511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73440" y="1844640"/>
            <a:ext cx="142920" cy="1511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909080" y="23828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87280" y="23828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449440" y="256392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2449440" y="2131920"/>
            <a:ext cx="122400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449440" y="2852640"/>
            <a:ext cx="12240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2449440" y="1628280"/>
            <a:ext cx="122400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49440" y="3068640"/>
            <a:ext cx="1224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195640" y="5013360"/>
            <a:ext cx="142920" cy="1511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637080" y="5013360"/>
            <a:ext cx="142920" cy="1511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833120" y="55515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10960" y="55515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373480" y="5732640"/>
            <a:ext cx="122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2340000" y="5013360"/>
            <a:ext cx="64764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340000" y="5732640"/>
            <a:ext cx="5428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95640" y="6524640"/>
            <a:ext cx="1584360" cy="144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95640" y="4869000"/>
            <a:ext cx="1584360" cy="144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987640" y="5013360"/>
            <a:ext cx="647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2843280" y="5950080"/>
            <a:ext cx="79200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4494240" y="5475240"/>
                <a:ext cx="35924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σ</m:t>
                    </m:r>
                    <m:r>
                      <m:t xml:space="preserve">⋅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</m:e>
                    </m:bar>
                    <m:r>
                      <m:t xml:space="preserve">⋅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4494240" y="2276640"/>
                <a:ext cx="359244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σ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258920" y="1760400"/>
            <a:ext cx="6480000" cy="50533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95160" y="260280"/>
            <a:ext cx="7640640" cy="398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Gráfico para determinar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factor de intercambio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 para el caso a, 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57520" y="6332400"/>
            <a:ext cx="75722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rvas 1,2,3 y 4 planos no conectados (a). Curvas 5,6,7 y 8 planos conecta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6920" y="947880"/>
            <a:ext cx="3441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 define el </a:t>
            </a:r>
            <a:r>
              <a:rPr b="0" i="1" lang="en-US" sz="1400" spc="-1" strike="noStrike">
                <a:solidFill>
                  <a:srgbClr val="ff0000"/>
                </a:solidFill>
                <a:latin typeface="Tahoma"/>
              </a:rPr>
              <a:t>factor de intercambio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com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para superficies conectadas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4375080" y="932040"/>
                <a:ext cx="214164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</m:e>
                    </m:ba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96960" y="404640"/>
            <a:ext cx="7978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cuación de factor de intercambio aplicable en el caso en que las áreas son convex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Se cumple también que: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4100400" y="1197000"/>
                <a:ext cx="22701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</m:e>
                    </m:bar>
                    <m:r>
                      <m:t xml:space="preserve">⋅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</m:e>
                    </m:bar>
                    <m:r>
                      <m:t xml:space="preserve">⋅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554040" y="2333520"/>
            <a:ext cx="7978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)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Radiación desde un plano radiante a un banco de tubos posicio-        nados frente a una pared refractaria que absorbe la energía de los rayos que pasan entre los tubos, la reirradia y reirradia la energía absorbida sobre la parte trasera de los tub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11280" y="260280"/>
            <a:ext cx="7848360" cy="1656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00360" y="4165560"/>
            <a:ext cx="3095640" cy="360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771640" y="4670280"/>
            <a:ext cx="360360" cy="360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05080" y="4670280"/>
            <a:ext cx="360360" cy="360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635280" y="4670280"/>
            <a:ext cx="360360" cy="360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068720" y="4670280"/>
            <a:ext cx="360360" cy="360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02160" y="4670280"/>
            <a:ext cx="360360" cy="360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932360" y="4670280"/>
            <a:ext cx="360360" cy="360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65800" y="4670280"/>
            <a:ext cx="360360" cy="360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87640" y="5030640"/>
            <a:ext cx="360360" cy="360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421080" y="5030640"/>
            <a:ext cx="360360" cy="360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51280" y="5030640"/>
            <a:ext cx="360360" cy="360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284720" y="5030640"/>
            <a:ext cx="360360" cy="360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4920" y="5030640"/>
            <a:ext cx="360360" cy="360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148360" y="5030640"/>
            <a:ext cx="360360" cy="360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2700000" y="5533920"/>
            <a:ext cx="3097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5869080" y="5246640"/>
            <a:ext cx="576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5869080" y="4815000"/>
            <a:ext cx="576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484320" y="4653000"/>
            <a:ext cx="121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gunda fi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481440" y="5086440"/>
            <a:ext cx="114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imera fi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36960" y="560700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lano radia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835960" y="4149720"/>
            <a:ext cx="159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ared refracta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484360" y="647640"/>
            <a:ext cx="4419720" cy="61660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830880" y="189000"/>
            <a:ext cx="7328160" cy="398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Gráfico para determinar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factor de intercambio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 para el caso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240" y="6165720"/>
            <a:ext cx="91022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adiación absorbida por los tubos calculada como fracción de aquella absorbida por un pl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ralelo de área igual a la de la pared refractaria situada detrás de los tub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22400" y="189000"/>
            <a:ext cx="8697600" cy="69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Tahoma"/>
              </a:rPr>
              <a:t>1.2.</a:t>
            </a:r>
            <a:r>
              <a:rPr b="0" i="1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s-ES" sz="2000" spc="-1" strike="noStrike" u="sng">
                <a:solidFill>
                  <a:srgbClr val="000000"/>
                </a:solidFill>
                <a:uFillTx/>
                <a:latin typeface="Tahoma"/>
              </a:rPr>
              <a:t>Caso general: radiación entre superficies grises de área finita.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n este caso una fracción de la radiación recibida por cada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uperficie es reflejada hacia la otra superfici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ntonces, calor transferido será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ara el caso de dos </a:t>
            </a:r>
            <a:r>
              <a:rPr b="0" i="1" lang="es-ES" sz="2000" spc="-1" strike="noStrike">
                <a:solidFill>
                  <a:srgbClr val="000000"/>
                </a:solidFill>
                <a:latin typeface="Tahoma"/>
              </a:rPr>
              <a:t>superficies planas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grises finita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n el caso de planos grises conectados por paredes rerradi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e usa la ecuación anterior pero usando    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600" spc="-1" strike="noStrike">
                <a:solidFill>
                  <a:srgbClr val="ff0000"/>
                </a:solidFill>
                <a:latin typeface="Tahoma"/>
              </a:rPr>
              <a:t>La reflexión disminuye el flujo neto de radiación entre las superficies en relación al </a:t>
            </a:r>
            <a:r>
              <a:rPr b="0" lang="es-E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s-ES" sz="1600" spc="-1" strike="noStrike">
                <a:solidFill>
                  <a:srgbClr val="ff0000"/>
                </a:solidFill>
                <a:latin typeface="Tahoma"/>
              </a:rPr>
              <a:t>caso de cuerpos negr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5011560" y="1687680"/>
                <a:ext cx="359280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σ</m:t>
                    </m:r>
                    <m:r>
                      <m:t xml:space="preserve">⋅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⋅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2340000" y="3301920"/>
                <a:ext cx="4741920" cy="14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ε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ε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5651640" y="5373720"/>
                <a:ext cx="3794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976120" y="223920"/>
            <a:ext cx="305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6600"/>
                </a:solidFill>
                <a:uFillTx/>
                <a:latin typeface="Tahoma"/>
              </a:rPr>
              <a:t>EFECTO INVERNAD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-166320" y="836640"/>
            <a:ext cx="94374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Capas gruesas de sólidos o líquidos son opacas y absorben toda la radi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e no es reflejada, sin transmitir nad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Películas delgadas de la mayoría de los sólidos y líquidos absorben sólo u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acción de esa radiación y el resto la transmiten (dependiendo del espe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 la película y la longitud de onda de la radiació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49480" y="3141720"/>
            <a:ext cx="368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Láminas de vidrio ordi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24360" y="3357720"/>
            <a:ext cx="576360" cy="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00160" y="2914560"/>
            <a:ext cx="4120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9999"/>
                </a:solidFill>
                <a:latin typeface="Tahoma"/>
              </a:rPr>
              <a:t>Transparent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 la radiación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itud de onda bajas, o sea, 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 zona visib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97280" y="4005360"/>
            <a:ext cx="428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9999"/>
                </a:solidFill>
                <a:latin typeface="Tahoma"/>
              </a:rPr>
              <a:t>Opaca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 la radiación de longit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 onda alt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6200000">
            <a:off x="1602360" y="4564440"/>
            <a:ext cx="1584360" cy="2627280"/>
          </a:xfrm>
          <a:prstGeom prst="can">
            <a:avLst>
              <a:gd name="adj" fmla="val 223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26920" y="5950080"/>
            <a:ext cx="316728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44720" y="5950080"/>
            <a:ext cx="26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547640" y="4581360"/>
            <a:ext cx="432000" cy="719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08000" y="4508640"/>
            <a:ext cx="287640" cy="7207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4508640"/>
            <a:ext cx="0" cy="7207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771280" y="4508640"/>
            <a:ext cx="287640" cy="7207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132000" y="3645000"/>
            <a:ext cx="648000" cy="7207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3058920" y="4581360"/>
            <a:ext cx="360360" cy="719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316600" y="3573360"/>
            <a:ext cx="85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10 000 º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928880" y="5661000"/>
            <a:ext cx="1361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1" lang="es-ES" sz="1200" spc="-1" strike="noStrike" baseline="-25000">
                <a:solidFill>
                  <a:srgbClr val="000000"/>
                </a:solidFill>
                <a:latin typeface="Tahoma"/>
              </a:rPr>
              <a:t>inicial</a:t>
            </a: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 = 20 – 25º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1619280" y="5084640"/>
            <a:ext cx="216000" cy="43200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1979640" y="5084640"/>
            <a:ext cx="216000" cy="43200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340000" y="5084640"/>
            <a:ext cx="0" cy="43200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2484360" y="5084640"/>
            <a:ext cx="216000" cy="43200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2771640" y="5084640"/>
            <a:ext cx="216000" cy="43200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3635280" y="5516280"/>
            <a:ext cx="64944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372200" y="5280120"/>
            <a:ext cx="3566880" cy="9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99"/>
                </a:solidFill>
                <a:uFillTx/>
                <a:latin typeface="Tahoma"/>
              </a:rPr>
              <a:t>ATMÓSF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ígeno, Nitrógeno -&gt; Transmi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(v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-&gt; Absorben, reflejan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2T11:05:31Z</dcterms:created>
  <dc:creator>Meli</dc:creator>
  <dc:description/>
  <dc:language>en-US</dc:language>
  <cp:lastModifiedBy>mcolet</cp:lastModifiedBy>
  <dcterms:modified xsi:type="dcterms:W3CDTF">2007-09-06T14:06:21Z</dcterms:modified>
  <cp:revision>158</cp:revision>
  <dc:subject/>
  <dc:title>IQ46B – Operaciones de Transferencia I  Profesor: Tomás Vargas</dc:title>
</cp:coreProperties>
</file>