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B99-6FC8-456B-9093-5E95EC99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5D3-25E9-4803-9DAE-11C96BB9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53B-9743-4B3C-B292-ECFA561F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557-68CB-4DAF-ABF7-0CDC9920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6E8-8D6A-40EF-A37E-7838ED43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376-105D-4C63-912C-80E0E5DA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175-FCEE-4E79-8970-EB11553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2EA-68EC-45D5-8BB4-7E1ED7F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30A-CC53-4230-95AA-9E79341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560-1E4B-486D-8663-BCFDBCC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B84-298B-41A6-AA79-8FA77D6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8F9-5727-413A-8379-58033ED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DF77-7E67-42C0-896C-19FCB4428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e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8840" y="2708280"/>
            <a:ext cx="74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CIÓN – MÓDULO 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UJO DE RADIACIÓN ENTRE SUPERF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 ÁREA FI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4040" y="260280"/>
            <a:ext cx="79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ta ahora hemos considerado que toda la radiación emitida por cada cuerpo es recibida por el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 embargo, en Ingeniería los cuerpos tienen área finit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41300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917720"/>
            <a:ext cx="79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ólo una fracción de la energía irradiada por uno de los cuerpos es recibida por el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Factor de visión (o de for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084480"/>
                <a:ext cx="3476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 rot="20616600">
            <a:off x="2557080" y="4763880"/>
            <a:ext cx="1295280" cy="1041120"/>
          </a:xfrm>
          <a:custGeom>
            <a:avLst/>
            <a:gdLst/>
            <a:ahLst/>
            <a:rect l="l" t="t" r="r" b="b"/>
            <a:pathLst>
              <a:path w="654" h="459">
                <a:moveTo>
                  <a:pt x="30" y="83"/>
                </a:moveTo>
                <a:cubicBezTo>
                  <a:pt x="81" y="45"/>
                  <a:pt x="40" y="68"/>
                  <a:pt x="114" y="53"/>
                </a:cubicBezTo>
                <a:cubicBezTo>
                  <a:pt x="180" y="40"/>
                  <a:pt x="254" y="20"/>
                  <a:pt x="318" y="0"/>
                </a:cubicBezTo>
                <a:cubicBezTo>
                  <a:pt x="447" y="6"/>
                  <a:pt x="473" y="10"/>
                  <a:pt x="576" y="38"/>
                </a:cubicBezTo>
                <a:cubicBezTo>
                  <a:pt x="605" y="57"/>
                  <a:pt x="613" y="82"/>
                  <a:pt x="637" y="106"/>
                </a:cubicBezTo>
                <a:cubicBezTo>
                  <a:pt x="642" y="126"/>
                  <a:pt x="654" y="146"/>
                  <a:pt x="652" y="167"/>
                </a:cubicBezTo>
                <a:cubicBezTo>
                  <a:pt x="645" y="223"/>
                  <a:pt x="643" y="314"/>
                  <a:pt x="591" y="348"/>
                </a:cubicBezTo>
                <a:cubicBezTo>
                  <a:pt x="574" y="402"/>
                  <a:pt x="511" y="417"/>
                  <a:pt x="462" y="432"/>
                </a:cubicBezTo>
                <a:cubicBezTo>
                  <a:pt x="447" y="437"/>
                  <a:pt x="432" y="442"/>
                  <a:pt x="417" y="447"/>
                </a:cubicBezTo>
                <a:cubicBezTo>
                  <a:pt x="409" y="450"/>
                  <a:pt x="394" y="455"/>
                  <a:pt x="394" y="455"/>
                </a:cubicBezTo>
                <a:cubicBezTo>
                  <a:pt x="251" y="449"/>
                  <a:pt x="222" y="459"/>
                  <a:pt x="121" y="424"/>
                </a:cubicBezTo>
                <a:cubicBezTo>
                  <a:pt x="110" y="416"/>
                  <a:pt x="85" y="400"/>
                  <a:pt x="76" y="386"/>
                </a:cubicBezTo>
                <a:cubicBezTo>
                  <a:pt x="46" y="336"/>
                  <a:pt x="92" y="389"/>
                  <a:pt x="53" y="348"/>
                </a:cubicBezTo>
                <a:cubicBezTo>
                  <a:pt x="33" y="293"/>
                  <a:pt x="20" y="237"/>
                  <a:pt x="0" y="182"/>
                </a:cubicBezTo>
                <a:cubicBezTo>
                  <a:pt x="10" y="153"/>
                  <a:pt x="8" y="129"/>
                  <a:pt x="45" y="129"/>
                </a:cubicBezTo>
                <a:lnTo>
                  <a:pt x="30" y="83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618800">
            <a:off x="5579640" y="4721400"/>
            <a:ext cx="1254240" cy="923760"/>
          </a:xfrm>
          <a:custGeom>
            <a:avLst/>
            <a:gdLst/>
            <a:ahLst/>
            <a:rect l="l" t="t" r="r" b="b"/>
            <a:pathLst>
              <a:path w="654" h="459">
                <a:moveTo>
                  <a:pt x="30" y="83"/>
                </a:moveTo>
                <a:cubicBezTo>
                  <a:pt x="81" y="45"/>
                  <a:pt x="40" y="68"/>
                  <a:pt x="114" y="53"/>
                </a:cubicBezTo>
                <a:cubicBezTo>
                  <a:pt x="180" y="40"/>
                  <a:pt x="254" y="20"/>
                  <a:pt x="318" y="0"/>
                </a:cubicBezTo>
                <a:cubicBezTo>
                  <a:pt x="447" y="6"/>
                  <a:pt x="473" y="10"/>
                  <a:pt x="576" y="38"/>
                </a:cubicBezTo>
                <a:cubicBezTo>
                  <a:pt x="605" y="57"/>
                  <a:pt x="613" y="82"/>
                  <a:pt x="637" y="106"/>
                </a:cubicBezTo>
                <a:cubicBezTo>
                  <a:pt x="642" y="126"/>
                  <a:pt x="654" y="146"/>
                  <a:pt x="652" y="167"/>
                </a:cubicBezTo>
                <a:cubicBezTo>
                  <a:pt x="645" y="223"/>
                  <a:pt x="643" y="314"/>
                  <a:pt x="591" y="348"/>
                </a:cubicBezTo>
                <a:cubicBezTo>
                  <a:pt x="574" y="402"/>
                  <a:pt x="511" y="417"/>
                  <a:pt x="462" y="432"/>
                </a:cubicBezTo>
                <a:cubicBezTo>
                  <a:pt x="447" y="437"/>
                  <a:pt x="432" y="442"/>
                  <a:pt x="417" y="447"/>
                </a:cubicBezTo>
                <a:cubicBezTo>
                  <a:pt x="409" y="450"/>
                  <a:pt x="394" y="455"/>
                  <a:pt x="394" y="455"/>
                </a:cubicBezTo>
                <a:cubicBezTo>
                  <a:pt x="251" y="449"/>
                  <a:pt x="222" y="459"/>
                  <a:pt x="121" y="424"/>
                </a:cubicBezTo>
                <a:cubicBezTo>
                  <a:pt x="110" y="416"/>
                  <a:pt x="85" y="400"/>
                  <a:pt x="76" y="386"/>
                </a:cubicBezTo>
                <a:cubicBezTo>
                  <a:pt x="46" y="336"/>
                  <a:pt x="92" y="389"/>
                  <a:pt x="53" y="348"/>
                </a:cubicBezTo>
                <a:cubicBezTo>
                  <a:pt x="33" y="293"/>
                  <a:pt x="20" y="237"/>
                  <a:pt x="0" y="182"/>
                </a:cubicBezTo>
                <a:cubicBezTo>
                  <a:pt x="10" y="153"/>
                  <a:pt x="8" y="129"/>
                  <a:pt x="45" y="129"/>
                </a:cubicBezTo>
                <a:lnTo>
                  <a:pt x="30" y="83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203640" y="5157360"/>
            <a:ext cx="3097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03640" y="4436640"/>
            <a:ext cx="28872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0000" y="458100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7920" y="4968720"/>
            <a:ext cx="216000" cy="420840"/>
          </a:xfrm>
          <a:custGeom>
            <a:avLst/>
            <a:gdLst/>
            <a:ahLst/>
            <a:rect l="l" t="t" r="r" b="b"/>
            <a:pathLst>
              <a:path w="136" h="265">
                <a:moveTo>
                  <a:pt x="0" y="0"/>
                </a:moveTo>
                <a:cubicBezTo>
                  <a:pt x="50" y="15"/>
                  <a:pt x="42" y="34"/>
                  <a:pt x="76" y="68"/>
                </a:cubicBezTo>
                <a:cubicBezTo>
                  <a:pt x="92" y="121"/>
                  <a:pt x="71" y="61"/>
                  <a:pt x="98" y="113"/>
                </a:cubicBezTo>
                <a:cubicBezTo>
                  <a:pt x="113" y="143"/>
                  <a:pt x="118" y="180"/>
                  <a:pt x="129" y="212"/>
                </a:cubicBezTo>
                <a:cubicBezTo>
                  <a:pt x="136" y="260"/>
                  <a:pt x="136" y="242"/>
                  <a:pt x="136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00840" y="4896000"/>
            <a:ext cx="135000" cy="420480"/>
          </a:xfrm>
          <a:custGeom>
            <a:avLst/>
            <a:gdLst/>
            <a:ahLst/>
            <a:rect l="l" t="t" r="r" b="b"/>
            <a:pathLst>
              <a:path w="85" h="265">
                <a:moveTo>
                  <a:pt x="85" y="0"/>
                </a:moveTo>
                <a:cubicBezTo>
                  <a:pt x="71" y="41"/>
                  <a:pt x="46" y="72"/>
                  <a:pt x="32" y="114"/>
                </a:cubicBezTo>
                <a:cubicBezTo>
                  <a:pt x="27" y="129"/>
                  <a:pt x="22" y="144"/>
                  <a:pt x="17" y="159"/>
                </a:cubicBezTo>
                <a:cubicBezTo>
                  <a:pt x="14" y="167"/>
                  <a:pt x="9" y="182"/>
                  <a:pt x="9" y="182"/>
                </a:cubicBezTo>
                <a:cubicBezTo>
                  <a:pt x="0" y="240"/>
                  <a:pt x="2" y="212"/>
                  <a:pt x="2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73520" y="5229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39988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1497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678640" y="472428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32240" y="4867200"/>
                <a:ext cx="307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059920" y="508464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1160" y="48690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4040" y="10875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qu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60520" y="17604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76360" y="3129120"/>
                <a:ext cx="623556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17960" y="468324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22400" y="22392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1.1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es de visión entre cuerpos negr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2040" y="5300640"/>
            <a:ext cx="33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lación de recipr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97868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sos de configuraciones típ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s con formas de discos, cuadrados y rectángulos, colocados en forma paralela a cierta distancia entre sí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s con formas de discos, cuadrados y rectángulos, colocados en forma paralela a cierta distancia entre sí, pero conectados por paredes rerreadiantes, adiabáticas o refract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5080" y="184464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73440" y="184464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9080" y="2382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7280" y="2382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9440" y="2563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49440" y="213192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49440" y="2852640"/>
            <a:ext cx="1224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9440" y="162828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9440" y="306864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501336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7080" y="501336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3120" y="5551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0960" y="5551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3480" y="5732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40000" y="501336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5732640"/>
            <a:ext cx="5428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6524640"/>
            <a:ext cx="1584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4869000"/>
            <a:ext cx="1584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501336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43280" y="5950080"/>
            <a:ext cx="792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94240" y="5475240"/>
                <a:ext cx="3592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94240" y="2276640"/>
                <a:ext cx="3592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760400"/>
            <a:ext cx="6480000" cy="5053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5160" y="260280"/>
            <a:ext cx="7640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 de intercamb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para el caso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7520" y="6332400"/>
            <a:ext cx="7572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vas 1,2,3 y 4 planos no conectados (a). Curvas 5,6,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94788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 define el </a:t>
            </a:r>
            <a:r>
              <a:rPr b="0" i="1" lang="en-US" sz="1400" spc="-1" strike="noStrike">
                <a:solidFill>
                  <a:srgbClr val="ff0000"/>
                </a:solidFill>
                <a:latin typeface="Tahoma"/>
              </a:rPr>
              <a:t>factor de intercambi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para superficies conectadas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75080" y="93204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6960" y="404640"/>
            <a:ext cx="797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uación de factor de intercambio aplicable en el caso en que las áreas son convex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e cumple también qu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100400" y="1197000"/>
                <a:ext cx="2270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54040" y="2333520"/>
            <a:ext cx="797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diación desde un plano radiante a un banco de tubos posicio-        nados frente a una pared refractaria que absorbe la energía de los rayos que pasan entre los tubos, la reirradia y reirradia la energía absorbida sobre la parte trasera de los tub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60280"/>
            <a:ext cx="7848360" cy="165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416556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872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216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580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108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492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53392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9080" y="5246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9080" y="481500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4320" y="46530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1440" y="50864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36960" y="560700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35960" y="414972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647640"/>
            <a:ext cx="4419720" cy="6166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0880" y="189000"/>
            <a:ext cx="73281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 de intercamb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para el caso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0" y="6165720"/>
            <a:ext cx="9102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absorbida por los tubos calculada como fracción de aquella absorbida por un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elo de área igual a la de la pared refractaria 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00" y="189000"/>
            <a:ext cx="86976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1.2.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so general: radiación entre superficies grises de área finita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este caso una fracción de la radiación recibida por cada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 es reflejada hacia la otra superfi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onces, calor transferido s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 el caso de dos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superficies plana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grises finit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el caso de planos grises conectados por paredes rerra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usa la ecuación anterior pero usando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11560" y="1687680"/>
                <a:ext cx="35928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0000" y="3301920"/>
                <a:ext cx="47419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373720"/>
                <a:ext cx="379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76120" y="22392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EFECTO INVERN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66320" y="836640"/>
            <a:ext cx="943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Capas gruesas de sólidos o líquidos son opacas y absorben toda la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 no es reflejada, sin transmitir 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elículas delgadas de la mayoría de los sólidos y líquidos absorben sól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cción de esa radiación y el resto la transmiten (dependiendo del esp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película y la longitud de onda de la radi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480" y="314172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Láminas de vidrio ord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357720"/>
            <a:ext cx="5763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0160" y="2914560"/>
            <a:ext cx="41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Tahoma"/>
              </a:rPr>
              <a:t>Transparen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la radi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itud de onda bajas, o sea,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zona vi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7280" y="400536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Tahoma"/>
              </a:rPr>
              <a:t>Opac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la radiación de long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onda al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602360" y="4564440"/>
            <a:ext cx="1584360" cy="2627280"/>
          </a:xfrm>
          <a:prstGeom prst="can">
            <a:avLst>
              <a:gd name="adj" fmla="val 2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950080"/>
            <a:ext cx="3167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4720" y="59500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581360"/>
            <a:ext cx="43200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4508640"/>
            <a:ext cx="28764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50864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71280" y="4508640"/>
            <a:ext cx="28764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3645000"/>
            <a:ext cx="64800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058920" y="458136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16600" y="35733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28880" y="566100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928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97964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40000" y="5084640"/>
            <a:ext cx="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635280" y="551628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72200" y="5280120"/>
            <a:ext cx="3566880" cy="9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ATMÓSF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&gt; Absorben, reflejan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05:31Z</dcterms:created>
  <dc:creator>Meli</dc:creator>
  <dc:description/>
  <dc:language>en-US</dc:language>
  <cp:lastModifiedBy>mcolet</cp:lastModifiedBy>
  <dcterms:modified xsi:type="dcterms:W3CDTF">2007-09-06T14:06:21Z</dcterms:modified>
  <cp:revision>158</cp:revision>
  <dc:subject/>
  <dc:title>IQ46B – Operaciones de Transferencia I  Profesor: Tomás Vargas</dc:title>
</cp:coreProperties>
</file>