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54C-2B2A-4A8F-BDA9-BD4FE20A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B1BC-83DA-4562-8FA5-832A8B3F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55D-5640-4F2A-B7E0-1034A528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093-21AF-435F-8152-BE0E8802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7E9-72F9-42CC-A79A-033ED33F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417-A0CF-448D-B183-B26F7E0E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AC1C-6E84-4055-A24D-9553A801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3608-A774-415F-8AC2-D27AB7D4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11DC-086E-4C1F-9C41-CC4F81BA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A8D-A3B2-42E9-B3E2-2CF795E8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BA8-F8AE-48EB-B44F-B1698BAC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56D-C053-406D-988C-4E5CC670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4347-177B-41BC-AE8C-6F61AC638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Q46B – Operaciones de Transferencia I</a:t>
            </a:r>
            <a:br>
              <a:rPr sz="2800"/>
            </a:br>
            <a:br>
              <a:rPr sz="14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feso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más Var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1400" y="2708280"/>
            <a:ext cx="789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ADIACIÓN – MÓDULO 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FERENCIA DE CALOR POR RAD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 CONV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0960" y="260280"/>
            <a:ext cx="7978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tiene una pared caliente, a temperatura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nmersa en un fluido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eratura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341360"/>
            <a:ext cx="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050920" y="141300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050920" y="162864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050920" y="184644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050920" y="206208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050920" y="227808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50920" y="249408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50920" y="27115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050920" y="292752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21600" y="1989000"/>
            <a:ext cx="98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red 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1341360"/>
            <a:ext cx="1009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uido 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5640" y="1757520"/>
            <a:ext cx="1123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into 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2133720"/>
            <a:ext cx="287280" cy="1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482560" y="2062080"/>
            <a:ext cx="14436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2920" y="2062080"/>
            <a:ext cx="431640" cy="7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4560" y="191772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06800" y="1825560"/>
            <a:ext cx="29484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calor disipado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nvecció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adiació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7560" y="4076640"/>
            <a:ext cx="36248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alor disipado por radi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4920" y="4795920"/>
                <a:ext cx="4813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1763640" y="3413160"/>
            <a:ext cx="1139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gt;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11280" y="5527800"/>
                <a:ext cx="19954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4973760" y="4076640"/>
            <a:ext cx="38383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alor disipado por conv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724360" y="4818240"/>
                <a:ext cx="22082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84720" y="5527800"/>
                <a:ext cx="14875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844720" y="5959440"/>
            <a:ext cx="432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60600" y="5799240"/>
            <a:ext cx="11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Gráfic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68600" y="763560"/>
            <a:ext cx="5567400" cy="576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12360" y="260280"/>
            <a:ext cx="5898960" cy="44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ráfico para determinar h</a:t>
            </a:r>
            <a:r>
              <a:rPr b="0" lang="en-US" sz="2000" spc="-1" strike="noStrike" u="sng" baseline="-25000">
                <a:solidFill>
                  <a:srgbClr val="000000"/>
                </a:solidFill>
                <a:uFillTx/>
                <a:latin typeface="Tahoma"/>
              </a:rPr>
              <a:t>r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en función de T</a:t>
            </a:r>
            <a:r>
              <a:rPr b="0" lang="en-US" sz="2000" spc="-1" strike="noStrike" u="sng" baseline="-25000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y T</a:t>
            </a:r>
            <a:r>
              <a:rPr b="0" lang="en-US" sz="2000" spc="-1" strike="noStrike" u="sng" baseline="-25000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05280" y="260280"/>
            <a:ext cx="65160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Errores por medición de temperaturas de fluidos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termocuplas o termóme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40400" y="1341360"/>
            <a:ext cx="954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Experimento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medimos la temperatura de un recinto con una termocu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 termómet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Problema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la lectura se puede ver afectada por efecto de la radiación (pre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ncia de una pared o cuerpo caliente a temperatura diferente a la del fluid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3280" y="313992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36280" y="2924280"/>
            <a:ext cx="58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MPORTANTE!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dir temperatura a la somb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84760" y="4344840"/>
            <a:ext cx="0" cy="172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666600" y="4416480"/>
            <a:ext cx="217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666600" y="4632480"/>
            <a:ext cx="2178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666600" y="4849920"/>
            <a:ext cx="2178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666600" y="5065560"/>
            <a:ext cx="217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666600" y="5281560"/>
            <a:ext cx="217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666600" y="5497560"/>
            <a:ext cx="217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666600" y="5715000"/>
            <a:ext cx="217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666600" y="5931000"/>
            <a:ext cx="2178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19480" y="4908600"/>
            <a:ext cx="11332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uerp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aliente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92560" y="4273560"/>
            <a:ext cx="115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uido 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87840" y="4545000"/>
            <a:ext cx="1532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Termocupla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6040" y="5137200"/>
            <a:ext cx="287280" cy="1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098600" y="5065560"/>
            <a:ext cx="14436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98960" y="5065560"/>
            <a:ext cx="431640" cy="7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30600" y="492120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43480" y="5281560"/>
            <a:ext cx="144360" cy="144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343480" y="4993920"/>
            <a:ext cx="43344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416560" y="5209920"/>
            <a:ext cx="50328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2600" y="3645000"/>
            <a:ext cx="49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La situación se representa como sig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0080" y="6219720"/>
            <a:ext cx="1139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g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760" y="260280"/>
            <a:ext cx="602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tonces, en el equilibrio del sist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cuerpo caliente irradia hacia la termocup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termocupla disipa calor a través del flu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56000" y="1652760"/>
                <a:ext cx="4068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76720" y="2708280"/>
                <a:ext cx="2765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771640" y="2997360"/>
                <a:ext cx="347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755640" y="414972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3680" y="3860640"/>
            <a:ext cx="697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Termocupla se estabiliza a temperatura mayor qu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temperatura que tiene realmente el flui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7960" y="517536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68560" y="4903920"/>
            <a:ext cx="71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ecesario proteger el instrumento contra la radi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(Material de baja emisividad, escudo de radi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463320" y="1557360"/>
            <a:ext cx="10107000" cy="34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termómetro de vidrio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=0.96) se inserta en el centro de un ducto circ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r el ducto fluye aire con una velocidad tal que el coeficiente de película en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e el termómetro y el aire es 17.7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ahoma"/>
              </a:rPr>
              <a:t>BTU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hr – f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 – ºF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i las paredes del ducto están a 800 ºF y el termómetro lee 300 ºF, calcu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r la temperatura del aire en el 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) Si el termómetro se rodea con papel plateado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=0.03), determinar la nu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a lectura del termómetro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2520" y="2239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olu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920" y="763560"/>
            <a:ext cx="5429160" cy="5618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1332000" y="3715920"/>
            <a:ext cx="0" cy="2089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26920" y="378936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332000" y="580500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2720" y="3789360"/>
            <a:ext cx="287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82080" y="6165720"/>
            <a:ext cx="7628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ahoma"/>
              </a:rPr>
              <a:t>300 º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" y="3656160"/>
            <a:ext cx="46728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10600" y="105264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tien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861080" y="1700280"/>
                <a:ext cx="403200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86120" y="80028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881600" y="3016080"/>
                <a:ext cx="343548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207120" y="4549680"/>
                <a:ext cx="13892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º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400" y="223920"/>
            <a:ext cx="911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) En este caso la temperatura del papel será intermedia entre la temper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ura de la pared y la temperatura del aire. En el caso extremo se consid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75240" y="1177920"/>
            <a:ext cx="1544400" cy="40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are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a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0480" y="1736640"/>
            <a:ext cx="83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existe conducción ni convección entre el papel y el flujo de aire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720" y="227664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onc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84360" y="2852640"/>
                <a:ext cx="376524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pe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apel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075280" y="2852640"/>
                <a:ext cx="331308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411280" y="386064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4292640"/>
            <a:ext cx="1871640" cy="44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= f(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papel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,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479736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3080" y="5264280"/>
            <a:ext cx="319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Iterar!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Con respecto a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17200" y="5832360"/>
            <a:ext cx="1317240" cy="405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101 º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1:05:31Z</dcterms:created>
  <dc:creator>Meli</dc:creator>
  <dc:description/>
  <dc:language>en-US</dc:language>
  <cp:lastModifiedBy>mcolet</cp:lastModifiedBy>
  <dcterms:modified xsi:type="dcterms:W3CDTF">2007-09-04T15:08:02Z</dcterms:modified>
  <cp:revision>70</cp:revision>
  <dc:subject/>
  <dc:title>IQ46B – Operaciones de Transferencia I  Profesor: Tomás Vargas</dc:title>
</cp:coreProperties>
</file>