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210-8C87-4F30-B35E-DCAB1741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6EC-E8ED-4766-9B2C-A708493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226-1B68-440E-8B13-E8F598BC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28A-443B-4AD3-87FD-325FB548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9CF-8A8F-4B3E-8509-B4218536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745-223E-4626-A661-F30AA79E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48D-BA7A-40CE-B38D-A4EB2B4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F93-DEA6-4307-8D88-A9A4E49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001-3A7E-46DE-89BE-0B65F6F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94F-D279-4C42-8654-177A095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84C-3BB2-4448-B9BD-B1A5095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DBE-CCFF-48E0-B0DB-7E9FE50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EAAA-9730-43C3-AEDC-BCF8F8C7E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e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1400" y="2708280"/>
            <a:ext cx="78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CIÓN – MÓDULO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FERENCIA DE CALOR POR RAD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 CONV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0960" y="260280"/>
            <a:ext cx="7978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una pared caliente, a 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mersa en un fluid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a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34136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920" y="1413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050920" y="16286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50920" y="1846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50920" y="2062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050920" y="2278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2494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50920" y="2711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050920" y="292752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1600" y="198900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341360"/>
            <a:ext cx="100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75752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133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82560" y="206208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2920" y="206208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1917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06800" y="1825560"/>
            <a:ext cx="29484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calor disip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vec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diació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7560" y="4076640"/>
            <a:ext cx="3624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rad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920" y="4795920"/>
                <a:ext cx="481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763640" y="341316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1280" y="5527800"/>
                <a:ext cx="1995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973760" y="4076640"/>
            <a:ext cx="38383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alor disipado por conv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724360" y="4818240"/>
                <a:ext cx="22082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84720" y="5527800"/>
                <a:ext cx="1487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44720" y="5959440"/>
            <a:ext cx="432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60600" y="5799240"/>
            <a:ext cx="11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68600" y="763560"/>
            <a:ext cx="5567400" cy="576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12360" y="260280"/>
            <a:ext cx="5898960" cy="44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h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en función de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y T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05280" y="260280"/>
            <a:ext cx="65160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rrores por medición de temperaturas de fluidos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termocuplas o termó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40400" y="1341360"/>
            <a:ext cx="954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Experiment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medimos la temperatura de un recinto con una termocu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 termó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a lectura se puede ver afectada por efecto de la radiación (pr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ncia de una pared o cuerpo caliente a temperatura diferente a la del flui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31399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6280" y="29242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MPORTANTE!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ir temperatura a la som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4760" y="4344840"/>
            <a:ext cx="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666600" y="441648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66600" y="463248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66600" y="484992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66600" y="5065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666600" y="5281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66600" y="549756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66600" y="5715000"/>
            <a:ext cx="217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666600" y="5931000"/>
            <a:ext cx="2178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9480" y="4908600"/>
            <a:ext cx="11332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2560" y="427356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87840" y="454500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6040" y="513720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098600" y="5065560"/>
            <a:ext cx="144360" cy="21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8960" y="5065560"/>
            <a:ext cx="431640" cy="7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0600" y="49212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3480" y="5281560"/>
            <a:ext cx="144360" cy="144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43480" y="499392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6560" y="5209920"/>
            <a:ext cx="503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2600" y="3645000"/>
            <a:ext cx="49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La situación se representa como sig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0080" y="621972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760" y="260280"/>
            <a:ext cx="60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onces, en el equilibrio del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uerpo caliente irradia hacia la termocup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termocupla disipa calor a través del fl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56000" y="1652760"/>
                <a:ext cx="4068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2708280"/>
                <a:ext cx="2765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71640" y="299736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4149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3680" y="3860640"/>
            <a:ext cx="69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rmocupla se estabiliza a temperatura mayor qu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temperatura que tiene realmente el flu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960" y="517536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68560" y="4903920"/>
            <a:ext cx="71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cesario proteger el instrumento contra la radi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(Material de baja emisividad, escudo de radi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463320" y="1557360"/>
            <a:ext cx="101070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termómetro de vidri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96) se inserta en el centro de un ducto cir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el ducto fluye aire con una velocidad tal que el coeficiente de película en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e el termómetro y el aire es 17.7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BTU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r – f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 – ºF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i las paredes del ducto están a 800 ºF y el termómetro lee 300 ºF, calcu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r la temperatura del aire en el 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Si el termómetro se rodea con papel platead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0.03), determinar la nu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 lectura del termómetr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2520" y="2239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763560"/>
            <a:ext cx="5429160" cy="561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1332000" y="371592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92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580500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720" y="3789360"/>
            <a:ext cx="287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82080" y="6165720"/>
            <a:ext cx="7628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300 º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" y="3656160"/>
            <a:ext cx="46728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0600" y="105264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861080" y="1700280"/>
                <a:ext cx="4032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86120" y="80028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81600" y="3016080"/>
                <a:ext cx="34354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07120" y="4549680"/>
                <a:ext cx="1389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400" y="223920"/>
            <a:ext cx="91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) En este caso la temperatura del papel será intermedia entre la tempe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ura de la pared y la temperatura del aire. En el caso extremo se 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75240" y="1177920"/>
            <a:ext cx="1544400" cy="40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0480" y="1736640"/>
            <a:ext cx="83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existe conducción ni convección entre el papel y el flujo de aire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720" y="227664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on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4360" y="2852640"/>
                <a:ext cx="37652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75280" y="2852640"/>
                <a:ext cx="33130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411280" y="386064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92640"/>
            <a:ext cx="187164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 f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papel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,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797360"/>
            <a:ext cx="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080" y="5264280"/>
            <a:ext cx="319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Iterar!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Con respecto a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7200" y="5832360"/>
            <a:ext cx="1317240" cy="40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05:31Z</dcterms:created>
  <dc:creator>Meli</dc:creator>
  <dc:description/>
  <dc:language>en-US</dc:language>
  <cp:lastModifiedBy>mcolet</cp:lastModifiedBy>
  <dcterms:modified xsi:type="dcterms:W3CDTF">2007-09-04T15:08:02Z</dcterms:modified>
  <cp:revision>70</cp:revision>
  <dc:subject/>
  <dc:title>IQ46B – Operaciones de Transferencia I  Profesor: Tomás Vargas</dc:title>
</cp:coreProperties>
</file>