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D53E-6F8F-4E30-8F90-731E61FC0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E602-D80B-4574-B3B4-8FA0D31E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B40E-AC62-4AB5-A137-BE6C5C1B3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24FA-7ACA-49E0-8DC6-5706B1485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6F7E-5471-4DF7-BD6A-6D1C658D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62C0-8F37-441D-90D5-F5AC3274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7B58-F26C-4BCF-9526-BE5C85C8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FAE7-209E-4975-8182-E120A45A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4279-4383-46CE-B91B-8D0C7150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512C-866C-408D-989E-5DFD7422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5FCE-0CF9-47DD-AF86-9B88C492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FCD0-B228-4B86-8343-14E02E40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4309-2619-471E-B77E-008AC8A7C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549360"/>
            <a:ext cx="568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71640" y="1341360"/>
            <a:ext cx="57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09480" y="380880"/>
            <a:ext cx="3353040" cy="2971800"/>
            <a:chOff x="609480" y="380880"/>
            <a:chExt cx="3353040" cy="2971800"/>
          </a:xfrm>
        </p:grpSpPr>
        <p:sp>
          <p:nvSpPr>
            <p:cNvPr id="44" name=""/>
            <p:cNvSpPr/>
            <p:nvPr/>
          </p:nvSpPr>
          <p:spPr>
            <a:xfrm>
              <a:off x="685800" y="380880"/>
              <a:ext cx="3276720" cy="2971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95280" y="838080"/>
              <a:ext cx="2133720" cy="205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05120" y="1371240"/>
              <a:ext cx="91440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47920" y="990360"/>
              <a:ext cx="1828800" cy="167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05120" y="1371240"/>
              <a:ext cx="990360" cy="990720"/>
            </a:xfrm>
            <a:prstGeom prst="ellipse">
              <a:avLst/>
            </a:prstGeom>
            <a:solidFill>
              <a:srgbClr val="ff505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2438280" y="609480"/>
              <a:ext cx="7621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38280" y="1904760"/>
              <a:ext cx="381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447920" y="1752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752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2209320" y="1904760"/>
              <a:ext cx="228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90920" y="15998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2209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62120" y="114264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8080" y="1295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d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62120" y="2742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28800" y="99036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572000" y="333360"/>
            <a:ext cx="4392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ra transferencia de calor a través de una pared cilíndrica de largo dL habíamos visto que el flujo de calor por unidad de área externa (A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) está dado por la expres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40360" y="3213000"/>
            <a:ext cx="4608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aquí el flujo de calor neto se puede expresar com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859280" y="1916280"/>
                <a:ext cx="312408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284720" y="4437000"/>
                <a:ext cx="352908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539640" y="436572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DIO CRITICO DE AISLANTE TERMICO EN CAÑE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4360" y="47628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biendo 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843280" y="189000"/>
                <a:ext cx="29923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684360" y="1413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qu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124000" y="1341360"/>
                <a:ext cx="16560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995640" y="1341360"/>
                <a:ext cx="1584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r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940360" y="1268280"/>
                <a:ext cx="15843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213372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calor se puede expresar com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476360" y="2852640"/>
                <a:ext cx="452772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L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L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1042920" y="4653000"/>
            <a:ext cx="70581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 esta expresión se puede ver mas claramente que si se aumenta r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la resistencia por conducción en la pared aumenta y la resistencia por convección en la superficie externa disminu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95280" y="260280"/>
            <a:ext cx="7993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omando el caso de un cilindro metálico de radio externo r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rodeado por un aislante de radio r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ver figura)  el calor 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900000" y="1197000"/>
                <a:ext cx="32194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L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7" name=""/>
          <p:cNvGrpSpPr/>
          <p:nvPr/>
        </p:nvGrpSpPr>
        <p:grpSpPr>
          <a:xfrm>
            <a:off x="5796000" y="981000"/>
            <a:ext cx="3095640" cy="2808360"/>
            <a:chOff x="5796000" y="981000"/>
            <a:chExt cx="3095640" cy="2808360"/>
          </a:xfrm>
        </p:grpSpPr>
        <p:sp>
          <p:nvSpPr>
            <p:cNvPr id="78" name=""/>
            <p:cNvSpPr/>
            <p:nvPr/>
          </p:nvSpPr>
          <p:spPr>
            <a:xfrm>
              <a:off x="5796000" y="981000"/>
              <a:ext cx="2810160" cy="2808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1628640"/>
              <a:ext cx="1657440" cy="158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659640" y="1917720"/>
              <a:ext cx="1079640" cy="10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7164720" y="1773360"/>
              <a:ext cx="50328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164720" y="2349360"/>
              <a:ext cx="1079280" cy="9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68000" y="2925720"/>
              <a:ext cx="122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s-MX" sz="18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20000" y="1844640"/>
              <a:ext cx="865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s-MX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95280" y="2852640"/>
            <a:ext cx="48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Y el calor varía con el aumento de r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s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55640" y="3860280"/>
            <a:ext cx="4033800" cy="2782800"/>
            <a:chOff x="755640" y="3860280"/>
            <a:chExt cx="4033800" cy="2782800"/>
          </a:xfrm>
        </p:grpSpPr>
        <p:sp>
          <p:nvSpPr>
            <p:cNvPr id="87" name=""/>
            <p:cNvSpPr/>
            <p:nvPr/>
          </p:nvSpPr>
          <p:spPr>
            <a:xfrm flipV="1">
              <a:off x="1404720" y="3860280"/>
              <a:ext cx="0" cy="23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04720" y="6165720"/>
              <a:ext cx="338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08000" y="4641840"/>
              <a:ext cx="1584360" cy="658800"/>
            </a:xfrm>
            <a:custGeom>
              <a:avLst/>
              <a:gdLst/>
              <a:ahLst/>
              <a:rect l="l" t="t" r="r" b="b"/>
              <a:pathLst>
                <a:path w="998" h="415">
                  <a:moveTo>
                    <a:pt x="0" y="234"/>
                  </a:moveTo>
                  <a:cubicBezTo>
                    <a:pt x="11" y="203"/>
                    <a:pt x="23" y="173"/>
                    <a:pt x="46" y="143"/>
                  </a:cubicBezTo>
                  <a:cubicBezTo>
                    <a:pt x="69" y="113"/>
                    <a:pt x="99" y="75"/>
                    <a:pt x="136" y="52"/>
                  </a:cubicBezTo>
                  <a:cubicBezTo>
                    <a:pt x="173" y="29"/>
                    <a:pt x="234" y="14"/>
                    <a:pt x="272" y="7"/>
                  </a:cubicBezTo>
                  <a:cubicBezTo>
                    <a:pt x="310" y="0"/>
                    <a:pt x="333" y="7"/>
                    <a:pt x="363" y="7"/>
                  </a:cubicBezTo>
                  <a:cubicBezTo>
                    <a:pt x="393" y="7"/>
                    <a:pt x="424" y="0"/>
                    <a:pt x="454" y="7"/>
                  </a:cubicBezTo>
                  <a:cubicBezTo>
                    <a:pt x="484" y="14"/>
                    <a:pt x="500" y="22"/>
                    <a:pt x="545" y="52"/>
                  </a:cubicBezTo>
                  <a:cubicBezTo>
                    <a:pt x="590" y="82"/>
                    <a:pt x="689" y="159"/>
                    <a:pt x="726" y="189"/>
                  </a:cubicBezTo>
                  <a:cubicBezTo>
                    <a:pt x="763" y="219"/>
                    <a:pt x="726" y="196"/>
                    <a:pt x="771" y="234"/>
                  </a:cubicBezTo>
                  <a:cubicBezTo>
                    <a:pt x="816" y="272"/>
                    <a:pt x="960" y="385"/>
                    <a:pt x="998" y="41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84360" y="4653000"/>
              <a:ext cx="0" cy="1512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68720" y="6237360"/>
              <a:ext cx="720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5640" y="40766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d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52360" y="6237360"/>
              <a:ext cx="936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/h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6T04:41:33Z</dcterms:created>
  <dc:creator> Tomas Vargas</dc:creator>
  <dc:description/>
  <dc:language>en-US</dc:language>
  <cp:lastModifiedBy>Tomas Vargas</cp:lastModifiedBy>
  <dcterms:modified xsi:type="dcterms:W3CDTF">2007-08-21T21:27:16Z</dcterms:modified>
  <cp:revision>7</cp:revision>
  <dc:subject/>
  <dc:title>Diapositiva 1</dc:title>
</cp:coreProperties>
</file>