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1F9-78A6-434B-893C-2B87259C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E9D-A102-4758-A130-0406BF59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BD7-5D00-4C96-AF8E-2775DED2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168-D530-48D9-BCB1-7EC329CD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16F-9D04-46F2-A103-B8BDAA8D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BEB-3B20-45BD-8CDF-E7A9508C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600-D9D8-4BB9-8A54-A519650D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B72-78C4-427A-A890-C4194C4A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017-ECB5-4E41-8DA2-2BA48B0A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DA0-9BC5-4753-8B7B-BA43BE3A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430-0FAC-4B34-ADB7-0A5A8EFA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34E-A29C-43BE-BE6E-6A903843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8547-CF70-4ADE-9731-F25DF1C87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49360"/>
            <a:ext cx="56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134136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44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572000" y="333360"/>
            <a:ext cx="4392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transferencia de calor a través de una pared cilíndrica de largo dL habíamos visto que el flujo de calor por unidad de área externa (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) está dado por la expre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3213000"/>
            <a:ext cx="460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quí el flujo de calor neto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859280" y="1916280"/>
                <a:ext cx="31240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284720" y="4437000"/>
                <a:ext cx="3529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539640" y="43657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O CRITICO DE AISLANTE TERMICO EN CAÑ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476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iend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843280" y="189000"/>
                <a:ext cx="29923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68436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24000" y="1341360"/>
                <a:ext cx="1656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995640" y="1341360"/>
                <a:ext cx="1584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940360" y="1268280"/>
                <a:ext cx="1584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2133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alor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76360" y="2852640"/>
                <a:ext cx="45277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042920" y="4653000"/>
            <a:ext cx="7058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 esta expresión se puede ver mas claramente que si se aumenta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a resistencia por conducción en la pared aumenta y la resistencia por convección en la superficie externa dismin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260280"/>
            <a:ext cx="7993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mando el caso de un cilindro metálico de radio extern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rodeado por un aislante de radi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ver figura)  el calor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00000" y="1197000"/>
                <a:ext cx="3219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7" name=""/>
          <p:cNvGrpSpPr/>
          <p:nvPr/>
        </p:nvGrpSpPr>
        <p:grpSpPr>
          <a:xfrm>
            <a:off x="5796000" y="981000"/>
            <a:ext cx="3095640" cy="2808360"/>
            <a:chOff x="5796000" y="981000"/>
            <a:chExt cx="3095640" cy="2808360"/>
          </a:xfrm>
        </p:grpSpPr>
        <p:sp>
          <p:nvSpPr>
            <p:cNvPr id="78" name=""/>
            <p:cNvSpPr/>
            <p:nvPr/>
          </p:nvSpPr>
          <p:spPr>
            <a:xfrm>
              <a:off x="5796000" y="981000"/>
              <a:ext cx="2810160" cy="280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1628640"/>
              <a:ext cx="1657440" cy="158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59640" y="1917720"/>
              <a:ext cx="107964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164720" y="1773360"/>
              <a:ext cx="503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64720" y="2349360"/>
              <a:ext cx="1079280" cy="9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68000" y="2925720"/>
              <a:ext cx="122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20000" y="1844640"/>
              <a:ext cx="865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95280" y="2852640"/>
            <a:ext cx="48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el calor varía con el aumento de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55640" y="3860280"/>
            <a:ext cx="4033800" cy="2782800"/>
            <a:chOff x="755640" y="3860280"/>
            <a:chExt cx="4033800" cy="2782800"/>
          </a:xfrm>
        </p:grpSpPr>
        <p:sp>
          <p:nvSpPr>
            <p:cNvPr id="87" name=""/>
            <p:cNvSpPr/>
            <p:nvPr/>
          </p:nvSpPr>
          <p:spPr>
            <a:xfrm flipV="1">
              <a:off x="1404720" y="386028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04720" y="6165720"/>
              <a:ext cx="33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00" y="4641840"/>
              <a:ext cx="1584360" cy="658800"/>
            </a:xfrm>
            <a:custGeom>
              <a:avLst/>
              <a:gdLst/>
              <a:ahLst/>
              <a:rect l="l" t="t" r="r" b="b"/>
              <a:pathLst>
                <a:path w="998" h="415">
                  <a:moveTo>
                    <a:pt x="0" y="234"/>
                  </a:moveTo>
                  <a:cubicBezTo>
                    <a:pt x="11" y="203"/>
                    <a:pt x="23" y="173"/>
                    <a:pt x="46" y="143"/>
                  </a:cubicBezTo>
                  <a:cubicBezTo>
                    <a:pt x="69" y="113"/>
                    <a:pt x="99" y="75"/>
                    <a:pt x="136" y="52"/>
                  </a:cubicBezTo>
                  <a:cubicBezTo>
                    <a:pt x="173" y="29"/>
                    <a:pt x="234" y="14"/>
                    <a:pt x="272" y="7"/>
                  </a:cubicBezTo>
                  <a:cubicBezTo>
                    <a:pt x="310" y="0"/>
                    <a:pt x="333" y="7"/>
                    <a:pt x="363" y="7"/>
                  </a:cubicBezTo>
                  <a:cubicBezTo>
                    <a:pt x="393" y="7"/>
                    <a:pt x="424" y="0"/>
                    <a:pt x="454" y="7"/>
                  </a:cubicBezTo>
                  <a:cubicBezTo>
                    <a:pt x="484" y="14"/>
                    <a:pt x="500" y="22"/>
                    <a:pt x="545" y="52"/>
                  </a:cubicBezTo>
                  <a:cubicBezTo>
                    <a:pt x="590" y="82"/>
                    <a:pt x="689" y="159"/>
                    <a:pt x="726" y="189"/>
                  </a:cubicBezTo>
                  <a:cubicBezTo>
                    <a:pt x="763" y="219"/>
                    <a:pt x="726" y="196"/>
                    <a:pt x="771" y="234"/>
                  </a:cubicBezTo>
                  <a:cubicBezTo>
                    <a:pt x="816" y="272"/>
                    <a:pt x="960" y="385"/>
                    <a:pt x="998" y="41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84360" y="4653000"/>
              <a:ext cx="0" cy="151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8720" y="623736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5640" y="4076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2360" y="6237360"/>
              <a:ext cx="93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/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4:41:33Z</dcterms:created>
  <dc:creator> Tomas Vargas</dc:creator>
  <dc:description/>
  <dc:language>en-US</dc:language>
  <cp:lastModifiedBy>Tomas Vargas</cp:lastModifiedBy>
  <dcterms:modified xsi:type="dcterms:W3CDTF">2007-08-21T21:27:16Z</dcterms:modified>
  <cp:revision>7</cp:revision>
  <dc:subject/>
  <dc:title>Diapositiva 1</dc:title>
</cp:coreProperties>
</file>