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96A-EC3D-4315-AD26-41E99562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7E6-499A-491B-B07F-C0E3C8E6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3C9-B02E-471A-B7E9-1E261898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ADA-9B2E-40BB-858E-440D44F2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C89-434F-40F7-BE5E-1B986C51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D61-EBFB-43D4-8E54-C586D347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8CB-E130-49B7-A882-F8B8A840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3D9-C55D-4495-B38A-0C0B748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232-4C4C-4854-827D-3A570309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AA3-66D6-4091-B2DB-DD1382C1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9CF7-CD14-45AB-AF08-57C922A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459-315D-4536-BF00-EE2E9DF9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8B7C-1E1C-4E5D-86AC-F881A018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7-08-21T21:27:16Z</dcterms:modified>
  <cp:revision>7</cp:revision>
  <dc:subject/>
  <dc:title>Diapositiva 1</dc:title>
</cp:coreProperties>
</file>