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33C-3983-48E5-A7F7-ADF8598A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5AB5-814F-49E6-ACCF-84D1959A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595B-7DB0-4841-B9C5-4E2733B7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4C7-E126-41B3-81D1-872722F8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7AC1-A73E-43AE-96BA-180E7DB4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A47D-5616-436E-AE22-5C889A42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173D-822C-4E3F-B538-00B292CE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3529-5D3C-492E-9CCF-B777D216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7AFF-A37C-4520-95BF-7FF4CF20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FE7A-824A-4923-83B3-1738E13D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BDBA-6EDF-4B11-BB2B-8C8F20B8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0AAE-2099-4D77-94DF-33D562B1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2955-43EA-4669-9F8B-DC58A643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4F40-9684-4A5B-AB86-1778ACAB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9D4E-05DC-42CA-AE34-7009FC0E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086E-E906-41EE-961E-4854EE06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4786-9FC8-4029-B7C4-33F609C3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A84F-356E-4BAF-9116-0BBAA5ED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2693-6C97-4855-8F79-2F2ACC0B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C4E0-153B-4AE7-A9A8-801FD309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5B62-7B56-4725-B115-D3B30C74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6CC9-3C9B-4DE5-AA3F-3952D7E5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7B80-B2A9-430F-AD06-A91F8757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FA4-7E0D-41A1-B996-D5099C49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8D30-2A24-4E1A-8C88-8186D41884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9C17-9E6D-4C07-A4B7-F071C841E1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132000" y="4797000"/>
            <a:ext cx="57549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IQ46B – Operaciones de Transferencia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Profesor: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Tomás Var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Profesor Auxiliar: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Melanie Col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mestre Primavera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434960"/>
            <a:ext cx="77724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ahoma"/>
              </a:rPr>
              <a:t>Intercambiadores de calor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Tahoma"/>
              </a:rPr>
              <a:t>carcaza – tub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ferencia Logarítmica de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defin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771640" y="1413000"/>
                <a:ext cx="244800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82560" y="3933720"/>
            <a:ext cx="4392720" cy="1297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3573360"/>
            <a:ext cx="28908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3573360"/>
            <a:ext cx="28908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2560" y="5230800"/>
            <a:ext cx="28908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5230800"/>
            <a:ext cx="28908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458136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4560" y="414972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4560" y="429408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4560" y="443700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4560" y="4799160"/>
            <a:ext cx="3384360" cy="72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4560" y="494352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4560" y="508644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4560" y="400680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4560" y="465444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14560" y="393372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8920" y="393372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3141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559116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82200" y="3933720"/>
            <a:ext cx="28908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82200" y="5230800"/>
            <a:ext cx="28908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826920" y="5589360"/>
            <a:ext cx="0" cy="433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826920" y="3141720"/>
            <a:ext cx="0" cy="433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4797360"/>
            <a:ext cx="289080" cy="360360"/>
          </a:xfrm>
          <a:custGeom>
            <a:avLst/>
            <a:gdLst>
              <a:gd name="textAreaLeft" fmla="*/ 0 w 289080"/>
              <a:gd name="textAreaRight" fmla="*/ 289080 w 2890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5684000">
            <a:off x="4534200" y="4402440"/>
            <a:ext cx="505080" cy="287640"/>
          </a:xfrm>
          <a:custGeom>
            <a:avLst/>
            <a:gdLst>
              <a:gd name="textAreaLeft" fmla="*/ 88200 w 505080"/>
              <a:gd name="textAreaRight" fmla="*/ 366120 w 50508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754920" y="4006080"/>
            <a:ext cx="288720" cy="287280"/>
          </a:xfrm>
          <a:custGeom>
            <a:avLst/>
            <a:gdLst>
              <a:gd name="textAreaLeft" fmla="*/ 0 w 288720"/>
              <a:gd name="textAreaRight" fmla="*/ 289080 w 288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3160" y="605808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T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Tahoma"/>
              </a:rPr>
              <a:t>c,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2240" y="2698920"/>
            <a:ext cx="66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T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Tahoma"/>
              </a:rPr>
              <a:t>c,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97360" y="2709720"/>
            <a:ext cx="58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h,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77720" y="6058080"/>
            <a:ext cx="688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Tahoma"/>
              </a:rPr>
              <a:t>h,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638440"/>
            <a:ext cx="1800000" cy="576360"/>
          </a:xfrm>
          <a:prstGeom prst="ellipse">
            <a:avLst/>
          </a:prstGeom>
          <a:noFill/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5950080"/>
            <a:ext cx="4968720" cy="647640"/>
          </a:xfrm>
          <a:prstGeom prst="ellipse">
            <a:avLst/>
          </a:prstGeom>
          <a:noFill/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766400">
            <a:off x="2122560" y="2997360"/>
            <a:ext cx="433440" cy="28872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89480" y="6094440"/>
            <a:ext cx="433440" cy="28872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63920" y="3106800"/>
            <a:ext cx="561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cc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cc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9400" y="6058080"/>
            <a:ext cx="561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cc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cc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924280"/>
            <a:ext cx="360360" cy="3673440"/>
          </a:xfrm>
          <a:custGeom>
            <a:avLst/>
            <a:gdLst>
              <a:gd name="textAreaLeft" fmla="*/ 0 w 360360"/>
              <a:gd name="textAreaRight" fmla="*/ 129960 w 360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18320" y="4098960"/>
            <a:ext cx="2317680" cy="44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c,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h,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32720" y="4964040"/>
            <a:ext cx="2317680" cy="44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=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h,out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–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c,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actor de corrección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determina a partir de los gráficos con entra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900000" y="2693880"/>
                <a:ext cx="30798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25560" y="4229280"/>
                <a:ext cx="3141720" cy="12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084640" y="3429000"/>
                <a:ext cx="3735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4427640" y="1555920"/>
            <a:ext cx="431640" cy="4321080"/>
          </a:xfrm>
          <a:custGeom>
            <a:avLst/>
            <a:gdLst>
              <a:gd name="textAreaLeft" fmla="*/ 0 w 431640"/>
              <a:gd name="textAreaRight" fmla="*/ 155880 w 43164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19:07:39Z</dcterms:created>
  <dc:creator>Meli</dc:creator>
  <dc:description/>
  <dc:language>en-US</dc:language>
  <cp:lastModifiedBy>Meli</cp:lastModifiedBy>
  <dcterms:modified xsi:type="dcterms:W3CDTF">2007-08-09T19:44:58Z</dcterms:modified>
  <cp:revision>6</cp:revision>
  <dc:subject/>
  <dc:title>Diapositiva 1</dc:title>
</cp:coreProperties>
</file>