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31AF-3A66-41DD-BF1D-6BF42B67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2AF-1C7C-41CD-A503-4CE2D3B5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2DE-74A7-4D72-BF31-97C9C6A06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BE0F-436F-4640-A334-70E6B558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0D67-BC4B-4CCF-B666-1699D372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BFA2-0EBF-42B7-BAF6-C6D13018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D797-65DA-4C63-B92E-A0ACE02D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601D7-95B1-4363-A52F-3CC7D1C3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9E59-D3AE-42AB-99A6-873EBACB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EF79-BD69-49BB-A339-D1840655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F50D-8C23-4F04-8B7A-A9D3BDB1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AA40-6CD3-46C3-A816-CE292ED5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8B2A-BDCF-43EE-92F0-CA8E94B9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9BD7-2AD0-481A-89F4-9CD5E9D6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242B-29ED-48D4-8E39-1DED3A88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BBD7-238B-40D5-98F6-D5CDF7FA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90F4-B04C-4895-96A3-5C4684C1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FB0E-737C-4845-B1E7-79D42299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8288-05D5-433D-9A32-2CD2B1DA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13B4-87E7-474A-A21B-9061B872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B3A1-0F92-4E46-A295-F0FD4FB7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C607-DEE7-4939-A651-B1411353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5C52-F690-4334-A29D-538C56F0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45D-65B5-42EA-BFBF-6ED5C0E0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CC78-3349-4263-9C65-C0B3C62BEC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77B3-289F-42BF-8947-71EB29107E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132000" y="4797000"/>
            <a:ext cx="5754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Q46B – Operaciones de Transferenci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Profesor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Tomás V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Profesor Auxiliar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Melanie Co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mestre Primavera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434960"/>
            <a:ext cx="7772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ahoma"/>
              </a:rPr>
              <a:t>Intercambiadores de calor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Tahoma"/>
              </a:rPr>
              <a:t>carcaza – tub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erencia Logarítmica de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71640" y="1413000"/>
                <a:ext cx="244800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2560" y="3933720"/>
            <a:ext cx="4392720" cy="129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256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4581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4560" y="41497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4560" y="429408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4560" y="44370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4560" y="4799160"/>
            <a:ext cx="3384360" cy="7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4560" y="49435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4560" y="5086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4560" y="40068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4560" y="4654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456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892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141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559116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82200" y="393372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82200" y="523080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26920" y="5589360"/>
            <a:ext cx="0" cy="433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26920" y="3141720"/>
            <a:ext cx="0" cy="433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4797360"/>
            <a:ext cx="289080" cy="360360"/>
          </a:xfrm>
          <a:custGeom>
            <a:avLst/>
            <a:gdLst>
              <a:gd name="textAreaLeft" fmla="*/ 0 w 289080"/>
              <a:gd name="textAreaRight" fmla="*/ 289080 w 289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5684000">
            <a:off x="4534200" y="4402440"/>
            <a:ext cx="505080" cy="287640"/>
          </a:xfrm>
          <a:custGeom>
            <a:avLst/>
            <a:gdLst>
              <a:gd name="textAreaLeft" fmla="*/ 88200 w 505080"/>
              <a:gd name="textAreaRight" fmla="*/ 366120 w 50508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754920" y="4006080"/>
            <a:ext cx="288720" cy="287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3160" y="60580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40" y="2698920"/>
            <a:ext cx="66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ahoma"/>
              </a:rPr>
              <a:t>c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97360" y="2709720"/>
            <a:ext cx="58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h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77720" y="6058080"/>
            <a:ext cx="68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ahoma"/>
              </a:rPr>
              <a:t>h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638440"/>
            <a:ext cx="1800000" cy="57636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950080"/>
            <a:ext cx="4968720" cy="64764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766400">
            <a:off x="2122560" y="299736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89480" y="609444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63920" y="310680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9400" y="605808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924280"/>
            <a:ext cx="360360" cy="3673440"/>
          </a:xfrm>
          <a:custGeom>
            <a:avLst/>
            <a:gdLst>
              <a:gd name="textAreaLeft" fmla="*/ 0 w 360360"/>
              <a:gd name="textAreaRight" fmla="*/ 12996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18320" y="409896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c,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h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496404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,out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ctor de correcció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determina a partir de los gráficos con entr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00000" y="2693880"/>
                <a:ext cx="30798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25560" y="4229280"/>
                <a:ext cx="314172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84640" y="3429000"/>
                <a:ext cx="373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427640" y="1555920"/>
            <a:ext cx="431640" cy="4321080"/>
          </a:xfrm>
          <a:custGeom>
            <a:avLst/>
            <a:gdLst>
              <a:gd name="textAreaLeft" fmla="*/ 0 w 431640"/>
              <a:gd name="textAreaRight" fmla="*/ 155880 w 431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9:07:39Z</dcterms:created>
  <dc:creator>Meli</dc:creator>
  <dc:description/>
  <dc:language>en-US</dc:language>
  <cp:lastModifiedBy>Meli</cp:lastModifiedBy>
  <dcterms:modified xsi:type="dcterms:W3CDTF">2007-08-09T19:44:58Z</dcterms:modified>
  <cp:revision>6</cp:revision>
  <dc:subject/>
  <dc:title>Diapositiva 1</dc:title>
</cp:coreProperties>
</file>