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689-6D27-4D61-AD89-D14F2385F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577-0B04-4A80-8836-6CFF3DCA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2F26-B88B-4C69-A1C8-5512003A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D8A-9D47-4C01-B604-19AB5F1D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23901-A459-4204-A7A1-CBFD4595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8728-1AC6-4ADB-A3F5-A3B6215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3E2C-7164-4592-9EEB-F4B717A5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B334-C0A1-4BFE-B553-539F7A41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579F-985A-4EC5-8C01-BB5F8531D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FEA9-F486-4D5E-AB13-D55B320A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2DF7-E6D2-4543-AE6C-9DFC9BCB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D9B-66AA-40C1-9B7E-9C7A3009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C98F-AB9A-4E33-B0CF-27897289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87410-D5E7-4275-B9F6-E768F0F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13BE-71B1-4293-8612-C5ED6190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AD7F-19C0-4A71-97F0-9B69A973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6AEF2-261C-4886-81A4-EA89C118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8188-6F10-46B9-931C-AE7AB425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3430-7328-423D-8541-D58975B5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A6DB-2EEA-42BF-B528-520A78AB6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E56-674A-454F-9541-9CAE69E5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84ED-22E2-4263-B9CE-9C0BAEA2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6B91-4244-4FC3-9FA2-F0C84B8A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514-A636-4560-B4DB-45785015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6299-F925-40D3-842C-DC2E1FFC8A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0B0D-FFEF-4886-9623-21DCFEDCFB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132000" y="4797000"/>
            <a:ext cx="5754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IQ46B – Operaciones de Transferencia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Profesor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Tomás V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Tahoma"/>
              </a:rPr>
              <a:t>Profesor Auxiliar: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Melanie Col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mestre Primavera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1434960"/>
            <a:ext cx="7772400" cy="19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Tahoma"/>
              </a:rPr>
              <a:t>Intercambiadores de calor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Tahoma"/>
              </a:rPr>
              <a:t>carcaza – tubo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ferencia Logarítmica de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771640" y="1413000"/>
                <a:ext cx="2448000" cy="14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Δ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682560" y="3933720"/>
            <a:ext cx="4392720" cy="1297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357336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256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1640" y="5230800"/>
            <a:ext cx="28908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4581360"/>
            <a:ext cx="3816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4560" y="41497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4560" y="429408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14560" y="44370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14560" y="4799160"/>
            <a:ext cx="3384360" cy="72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4560" y="494352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14560" y="5086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4560" y="400680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14560" y="4654440"/>
            <a:ext cx="3384360" cy="730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1456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98920" y="3933720"/>
            <a:ext cx="0" cy="12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3141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356000" y="559116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82200" y="393372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82200" y="5230800"/>
            <a:ext cx="289080" cy="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826920" y="5589360"/>
            <a:ext cx="0" cy="4330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826920" y="3141720"/>
            <a:ext cx="0" cy="4334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4797360"/>
            <a:ext cx="289080" cy="360360"/>
          </a:xfrm>
          <a:custGeom>
            <a:avLst/>
            <a:gdLst>
              <a:gd name="textAreaLeft" fmla="*/ 0 w 289080"/>
              <a:gd name="textAreaRight" fmla="*/ 289080 w 28908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5684000">
            <a:off x="4534200" y="4402440"/>
            <a:ext cx="505080" cy="287640"/>
          </a:xfrm>
          <a:custGeom>
            <a:avLst/>
            <a:gdLst>
              <a:gd name="textAreaLeft" fmla="*/ 88200 w 505080"/>
              <a:gd name="textAreaRight" fmla="*/ 366120 w 505080"/>
              <a:gd name="textAreaTop" fmla="*/ 38520 h 287640"/>
              <a:gd name="textAreaBottom" fmla="*/ 24912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754920" y="4006080"/>
            <a:ext cx="288720" cy="287280"/>
          </a:xfrm>
          <a:custGeom>
            <a:avLst/>
            <a:gdLst>
              <a:gd name="textAreaLeft" fmla="*/ 0 w 288720"/>
              <a:gd name="textAreaRight" fmla="*/ 289080 w 288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3160" y="6058080"/>
            <a:ext cx="563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40" y="2698920"/>
            <a:ext cx="668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33cc"/>
                </a:solidFill>
                <a:latin typeface="Tahoma"/>
              </a:rPr>
              <a:t>c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97360" y="2709720"/>
            <a:ext cx="583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77720" y="6058080"/>
            <a:ext cx="688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ff0000"/>
                </a:solidFill>
                <a:latin typeface="Tahoma"/>
              </a:rPr>
              <a:t>h,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2638440"/>
            <a:ext cx="1800000" cy="57636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950080"/>
            <a:ext cx="4968720" cy="647640"/>
          </a:xfrm>
          <a:prstGeom prst="ellipse">
            <a:avLst/>
          </a:prstGeom>
          <a:noFill/>
          <a:ln w="28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766400">
            <a:off x="2122560" y="299736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89480" y="6094440"/>
            <a:ext cx="433440" cy="28872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ff00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63920" y="310680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729400" y="6058080"/>
            <a:ext cx="561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cc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924280"/>
            <a:ext cx="360360" cy="3673440"/>
          </a:xfrm>
          <a:custGeom>
            <a:avLst/>
            <a:gdLst>
              <a:gd name="textAreaLeft" fmla="*/ 0 w 360360"/>
              <a:gd name="textAreaRight" fmla="*/ 129960 w 360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18320" y="409896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c,ou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h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4964040"/>
            <a:ext cx="2317680" cy="440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=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h,out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– 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ahoma"/>
              </a:rPr>
              <a:t>c,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actor de corrección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 determina a partir de los gráficos con entrad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00000" y="2693880"/>
                <a:ext cx="307980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25560" y="4229280"/>
                <a:ext cx="3141720" cy="12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o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ld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084640" y="3429000"/>
                <a:ext cx="373536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4427640" y="1555920"/>
            <a:ext cx="431640" cy="4321080"/>
          </a:xfrm>
          <a:custGeom>
            <a:avLst/>
            <a:gdLst>
              <a:gd name="textAreaLeft" fmla="*/ 0 w 431640"/>
              <a:gd name="textAreaRight" fmla="*/ 155880 w 431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19:07:39Z</dcterms:created>
  <dc:creator>Meli</dc:creator>
  <dc:description/>
  <dc:language>en-US</dc:language>
  <cp:lastModifiedBy>Meli</cp:lastModifiedBy>
  <dcterms:modified xsi:type="dcterms:W3CDTF">2007-08-09T19:44:58Z</dcterms:modified>
  <cp:revision>6</cp:revision>
  <dc:subject/>
  <dc:title>Diapositiva 1</dc:title>
</cp:coreProperties>
</file>