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A0B-AAA7-4FA7-BE71-E99F0697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CA8-221D-49AE-9B41-68D8574B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910-5F85-403C-8225-B7B5E48A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03B-A526-404C-8DB3-8EA9AA50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05F-983D-44B7-BBF2-2139DDCC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5B1-DB86-4BA7-AE1F-1FEC0778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31A-03BB-44C9-9906-50E460AB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803-94D9-470F-89E4-EC5BB9B2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8FB-FDBA-4DDA-950E-E4FED575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FB0-3063-4B02-AD2D-A6A2557B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99C-FCAC-45E8-97FC-C1E2E6B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C56-B148-4DB7-B11A-3954CB2D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70DB-0F96-460F-85C1-F262E3E4384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02920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6520" y="2527200"/>
            <a:ext cx="139680" cy="343080"/>
          </a:xfrm>
          <a:custGeom>
            <a:avLst/>
            <a:gdLst/>
            <a:ahLst/>
            <a:rect l="l" t="t" r="r" b="b"/>
            <a:pathLst>
              <a:path w="88" h="216">
                <a:moveTo>
                  <a:pt x="88" y="0"/>
                </a:moveTo>
                <a:cubicBezTo>
                  <a:pt x="40" y="16"/>
                  <a:pt x="16" y="49"/>
                  <a:pt x="0" y="96"/>
                </a:cubicBezTo>
                <a:cubicBezTo>
                  <a:pt x="12" y="132"/>
                  <a:pt x="35" y="161"/>
                  <a:pt x="56" y="192"/>
                </a:cubicBezTo>
                <a:cubicBezTo>
                  <a:pt x="61" y="200"/>
                  <a:pt x="62" y="216"/>
                  <a:pt x="72" y="216"/>
                </a:cubicBezTo>
                <a:cubicBezTo>
                  <a:pt x="77" y="216"/>
                  <a:pt x="83" y="216"/>
                  <a:pt x="8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0680" y="2527200"/>
            <a:ext cx="380880" cy="373320"/>
          </a:xfrm>
          <a:custGeom>
            <a:avLst/>
            <a:gdLst/>
            <a:ahLst/>
            <a:rect l="l" t="t" r="r" b="b"/>
            <a:pathLst>
              <a:path w="240" h="235">
                <a:moveTo>
                  <a:pt x="88" y="0"/>
                </a:moveTo>
                <a:cubicBezTo>
                  <a:pt x="72" y="5"/>
                  <a:pt x="49" y="2"/>
                  <a:pt x="40" y="16"/>
                </a:cubicBezTo>
                <a:cubicBezTo>
                  <a:pt x="24" y="40"/>
                  <a:pt x="16" y="64"/>
                  <a:pt x="0" y="88"/>
                </a:cubicBezTo>
                <a:cubicBezTo>
                  <a:pt x="3" y="104"/>
                  <a:pt x="1" y="121"/>
                  <a:pt x="8" y="136"/>
                </a:cubicBezTo>
                <a:cubicBezTo>
                  <a:pt x="12" y="145"/>
                  <a:pt x="25" y="145"/>
                  <a:pt x="32" y="152"/>
                </a:cubicBezTo>
                <a:cubicBezTo>
                  <a:pt x="85" y="205"/>
                  <a:pt x="8" y="149"/>
                  <a:pt x="72" y="192"/>
                </a:cubicBezTo>
                <a:cubicBezTo>
                  <a:pt x="100" y="235"/>
                  <a:pt x="107" y="233"/>
                  <a:pt x="160" y="224"/>
                </a:cubicBezTo>
                <a:cubicBezTo>
                  <a:pt x="185" y="199"/>
                  <a:pt x="207" y="193"/>
                  <a:pt x="232" y="168"/>
                </a:cubicBezTo>
                <a:cubicBezTo>
                  <a:pt x="235" y="155"/>
                  <a:pt x="240" y="142"/>
                  <a:pt x="240" y="128"/>
                </a:cubicBezTo>
                <a:cubicBezTo>
                  <a:pt x="240" y="3"/>
                  <a:pt x="203" y="0"/>
                  <a:pt x="88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600200"/>
            <a:ext cx="254160" cy="927000"/>
          </a:xfrm>
          <a:custGeom>
            <a:avLst/>
            <a:gdLst/>
            <a:ahLst/>
            <a:rect l="l" t="t" r="r" b="b"/>
            <a:pathLst>
              <a:path w="160" h="584">
                <a:moveTo>
                  <a:pt x="144" y="584"/>
                </a:moveTo>
                <a:cubicBezTo>
                  <a:pt x="152" y="508"/>
                  <a:pt x="160" y="432"/>
                  <a:pt x="144" y="344"/>
                </a:cubicBezTo>
                <a:cubicBezTo>
                  <a:pt x="128" y="256"/>
                  <a:pt x="72" y="112"/>
                  <a:pt x="48" y="56"/>
                </a:cubicBezTo>
                <a:cubicBezTo>
                  <a:pt x="24" y="0"/>
                  <a:pt x="8" y="16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89548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36"/>
                  <a:pt x="112" y="72"/>
                  <a:pt x="96" y="144"/>
                </a:cubicBezTo>
                <a:cubicBezTo>
                  <a:pt x="80" y="216"/>
                  <a:pt x="16" y="38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600200"/>
            <a:ext cx="330480" cy="2057400"/>
          </a:xfrm>
          <a:custGeom>
            <a:avLst/>
            <a:gdLst/>
            <a:ahLst/>
            <a:rect l="l" t="t" r="r" b="b"/>
            <a:pathLst>
              <a:path w="208" h="1296">
                <a:moveTo>
                  <a:pt x="0" y="0"/>
                </a:moveTo>
                <a:cubicBezTo>
                  <a:pt x="32" y="40"/>
                  <a:pt x="64" y="80"/>
                  <a:pt x="96" y="144"/>
                </a:cubicBezTo>
                <a:cubicBezTo>
                  <a:pt x="128" y="208"/>
                  <a:pt x="176" y="304"/>
                  <a:pt x="192" y="384"/>
                </a:cubicBezTo>
                <a:cubicBezTo>
                  <a:pt x="208" y="464"/>
                  <a:pt x="192" y="560"/>
                  <a:pt x="192" y="624"/>
                </a:cubicBezTo>
                <a:cubicBezTo>
                  <a:pt x="192" y="688"/>
                  <a:pt x="192" y="720"/>
                  <a:pt x="192" y="768"/>
                </a:cubicBezTo>
                <a:cubicBezTo>
                  <a:pt x="192" y="816"/>
                  <a:pt x="200" y="856"/>
                  <a:pt x="192" y="912"/>
                </a:cubicBezTo>
                <a:cubicBezTo>
                  <a:pt x="184" y="968"/>
                  <a:pt x="168" y="1040"/>
                  <a:pt x="144" y="1104"/>
                </a:cubicBezTo>
                <a:cubicBezTo>
                  <a:pt x="120" y="1168"/>
                  <a:pt x="64" y="1264"/>
                  <a:pt x="48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981080"/>
            <a:ext cx="83808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432"/>
                </a:moveTo>
                <a:cubicBezTo>
                  <a:pt x="124" y="372"/>
                  <a:pt x="248" y="312"/>
                  <a:pt x="336" y="240"/>
                </a:cubicBezTo>
                <a:cubicBezTo>
                  <a:pt x="424" y="168"/>
                  <a:pt x="476" y="84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15228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733920"/>
            <a:ext cx="236196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0"/>
                </a:moveTo>
                <a:cubicBezTo>
                  <a:pt x="28" y="152"/>
                  <a:pt x="56" y="304"/>
                  <a:pt x="144" y="432"/>
                </a:cubicBezTo>
                <a:cubicBezTo>
                  <a:pt x="232" y="560"/>
                  <a:pt x="304" y="664"/>
                  <a:pt x="528" y="768"/>
                </a:cubicBezTo>
                <a:cubicBezTo>
                  <a:pt x="752" y="872"/>
                  <a:pt x="1328" y="1008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809880"/>
            <a:ext cx="2361960" cy="144792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0"/>
                </a:moveTo>
                <a:cubicBezTo>
                  <a:pt x="60" y="108"/>
                  <a:pt x="120" y="216"/>
                  <a:pt x="288" y="336"/>
                </a:cubicBezTo>
                <a:cubicBezTo>
                  <a:pt x="456" y="456"/>
                  <a:pt x="808" y="624"/>
                  <a:pt x="1008" y="720"/>
                </a:cubicBezTo>
                <a:cubicBezTo>
                  <a:pt x="1208" y="816"/>
                  <a:pt x="1348" y="864"/>
                  <a:pt x="1488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733920"/>
            <a:ext cx="2438280" cy="99036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0"/>
                </a:moveTo>
                <a:cubicBezTo>
                  <a:pt x="92" y="80"/>
                  <a:pt x="184" y="160"/>
                  <a:pt x="336" y="240"/>
                </a:cubicBezTo>
                <a:cubicBezTo>
                  <a:pt x="488" y="320"/>
                  <a:pt x="712" y="416"/>
                  <a:pt x="912" y="480"/>
                </a:cubicBezTo>
                <a:cubicBezTo>
                  <a:pt x="1112" y="544"/>
                  <a:pt x="1324" y="584"/>
                  <a:pt x="153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Tomas Vargas</cp:lastModifiedBy>
  <dcterms:modified xsi:type="dcterms:W3CDTF">2007-08-06T22:35:20Z</dcterms:modified>
  <cp:revision>9</cp:revision>
  <dc:subject/>
  <dc:title>Presentación de PowerPoint</dc:title>
</cp:coreProperties>
</file>