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0F1-A950-4A78-A61B-E50B9BAF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941-6E3F-4240-AB41-11A92891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947-ADFD-409A-9323-147B9CD1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408-574D-422B-B8FB-8F0D87D5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573-8EDC-48E4-A06E-8A343A2B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5BB-40A9-4330-AA3F-8499355C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8BD-6FAC-4876-8548-5A2CBD78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717-E7B2-4C20-ABA6-AF7E58B3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F90-A381-4C1E-B908-B2CF6778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70B-ED13-4786-B6E6-6B1A7EFE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B07-3BA6-4FBD-BF2A-4B03EE52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CA9-A7AD-443E-A650-28D2AE0B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9021-91B9-4D85-8585-A8293FBDE98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7-08-06T22:35:20Z</dcterms:modified>
  <cp:revision>9</cp:revision>
  <dc:subject/>
  <dc:title>Presentación de PowerPoint</dc:title>
</cp:coreProperties>
</file>