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E6DC5-796B-4F39-9C97-804AF2354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DB7CB-A1AC-4373-845A-A09174DE0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757CA-D859-47AD-B813-235B11B08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C025B-D7CB-498F-8D32-CDCC08686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79F98-0348-4EB2-B0E6-C542429C1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252EA-6FFD-4C34-BB92-2584F932B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F4B04-C26B-42B0-A87F-52EAE43A0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E44F-0E7B-4F1C-92C1-907DEEF09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67FA1-0191-4980-91F0-F17E610D0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85B1-1BFD-46BE-BA4A-9662F5333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A74F-ED42-4600-B31D-0EA947E60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9A21C-A800-4A77-86DB-BDA4B12F7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987E-184F-41EE-BD60-FE8F4B93420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as Vargas</cp:lastModifiedBy>
  <dcterms:modified xsi:type="dcterms:W3CDTF">2007-08-06T22:34:54Z</dcterms:modified>
  <cp:revision>7</cp:revision>
  <dc:subject/>
  <dc:title>Presentación de PowerPoint</dc:title>
</cp:coreProperties>
</file>