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60F1-89E7-4486-BD4A-B671D61F3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47F0-76BB-4F27-9EF2-24C6C153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1DB1-D132-4FE2-B4DC-F3AB855C7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B069F-71AF-4B5C-B79B-81E0B9F07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9A672-59F4-4CFC-8FD1-9E9EC142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7D23-8BE8-4F6F-B0E7-C4934EFE1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85E1C-AB70-4ECE-BFF7-6714725E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5A25-4948-4577-A2FD-BA184BEC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621E-E2D8-445E-BF7D-5E2D52DD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C717-0D54-484B-972C-0E19BD52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7719-407F-4720-90F0-E9A9A0C9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5E54-F332-41E0-84F1-DAC4C1F6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3D1D-AAD6-48CE-8B24-DBA3D82323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7-08-06T22:34:54Z</dcterms:modified>
  <cp:revision>7</cp:revision>
  <dc:subject/>
  <dc:title>Presentación de PowerPoint</dc:title>
</cp:coreProperties>
</file>