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BED-93AA-4301-9C5E-49FA5D7A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AE2-E396-4C7A-BD04-C1116D6D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A99-DB97-4A0B-9AFB-35372998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57B-8189-4E3F-BCC7-7928F0A1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19E-93DE-4CAA-9317-685854B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552-3F9E-4E2C-A778-3B23C01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0F7-0320-4A4F-84E1-291463C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182-F8A7-4005-827E-04B6C23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126-3D1F-4D75-A0DD-64BD2FF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40E-D77A-4DC4-B5F2-024E1BE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F52-49F2-4B43-A68B-7619533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09B-2F70-42AB-9735-729809E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99A-1BFB-42FE-A17B-84CC7D9F4B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7-08-06T22:34:24Z</dcterms:modified>
  <cp:revision>9</cp:revision>
  <dc:subject/>
  <dc:title>Presentación de PowerPoint</dc:title>
</cp:coreProperties>
</file>