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16B0-929E-4632-8F31-37B5A942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9822-D56D-49C4-B7A9-8EB0C455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F376-953D-4DCE-ABC1-4D8A994D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1798-09F9-4FEA-9CE7-51A5CF89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957D-485A-46B4-9DBB-05BD9BD2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0784-B343-4E04-9930-C578F9F7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5B90-5CC0-43A4-90A3-53C10F39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3AC4-B07F-4B9F-86F3-A3C9A12C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A381-8F9F-4CFF-B44C-9803157C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F0D3-7A26-4D83-80F5-E0044186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F91F-E420-43E1-9116-32CBFF8B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4796-3A5D-4B88-9D66-37FDB82A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A5D8-3BE7-4C1D-BB37-77BB6663D6B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1219320"/>
          <a:ext cx="692964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19320"/>
                    <a:ext cx="692964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9966ff"/>
                </a:solidFill>
                <a:latin typeface="Times New Roman"/>
              </a:rPr>
              <a:t>Intercambiador de calor de tubos concént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74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380880"/>
          <a:ext cx="5715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571500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334120" y="3048120"/>
          <a:ext cx="3209760" cy="32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3048120"/>
                    <a:ext cx="32097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 rot="2178000">
            <a:off x="2437920" y="5105520"/>
            <a:ext cx="4343400" cy="83808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457200"/>
            <a:ext cx="9144000" cy="56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BALANCE DE CALOR TOTAL EN EL INTERCAMBIAD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 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alor que cede el fluído calient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(mC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= Calor que absorbe el fluído frí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((mC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Si no hay pérdidas importantes de cal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= 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= 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 (Balance de calor total del intercambiador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BALANCE DIFERENCIAL DE CALOR EN AREA 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dq = (mC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dT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(calor cedido por fluído caliente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dq = (mC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dT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(calor absorbido por fluído frío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16002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26668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53080" y="37339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48769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54100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024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743200" y="609480"/>
                <a:ext cx="228600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838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576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19520" y="1295280"/>
                <a:ext cx="20574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533520" y="1981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ton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590920" y="1600200"/>
                <a:ext cx="2286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ΔT</m:t>
                        </m:r>
                      </m:e>
                      <m:e>
                        <m:r>
                          <m:t xml:space="preserve">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457880" y="3340080"/>
                <a:ext cx="22860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410040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590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o de balances diferenciales se tien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63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362320" y="5029200"/>
                <a:ext cx="35049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06224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429000" y="3124080"/>
                <a:ext cx="1905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609480" y="4495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velocidad de transferencia de calor en dA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371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533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1295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718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819520" y="990720"/>
                <a:ext cx="26668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7621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 balance global (Ec 1: Ec. 2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20574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stituyendo (m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/(m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en Ec. 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145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38080" y="2895480"/>
                <a:ext cx="74678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u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u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838080" y="3809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219320" y="4343400"/>
                <a:ext cx="55623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762120" y="56386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emplazando dq de Ec. 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3908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590920" y="304920"/>
                <a:ext cx="38862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228600" y="1143000"/>
            <a:ext cx="891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ordenando y suponiendo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stante a lo largo del intercambi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02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133720" y="1676520"/>
                <a:ext cx="43434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ΔT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ΔT</m:t>
                        </m:r>
                        <m:r>
                          <m:t xml:space="preserve">2</m:t>
                        </m:r>
                      </m:sup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Δ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O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762120" y="2895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 donde se tien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86000" y="3429000"/>
                <a:ext cx="396252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838080" y="4800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3809880"/>
            <a:ext cx="807732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, ento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as ecuaciones son válidas para flujo paralelo (co-corriente), flujo contracorriente, condensadores y evaporadores (ver siguiente diaposit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80880"/>
            <a:ext cx="7467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el caso de que el coeficiente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varía alo largo del intercambiador se puede tomar los valores en los extremos 1 y 2 y calcular en forma mas precis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9080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76520" y="1981080"/>
                <a:ext cx="350496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ΔT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57200" y="990720"/>
          <a:ext cx="784872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784872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6858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files de temperatura en intercambiadores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23:46:22Z</dcterms:created>
  <dc:creator>Tomás Vargas </dc:creator>
  <dc:description/>
  <dc:language>en-US</dc:language>
  <cp:lastModifiedBy>Tomas Vargas</cp:lastModifiedBy>
  <dcterms:modified xsi:type="dcterms:W3CDTF">2007-08-06T22:34:24Z</dcterms:modified>
  <cp:revision>9</cp:revision>
  <dc:subject/>
  <dc:title>Presentación de PowerPoint</dc:title>
</cp:coreProperties>
</file>