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1319-A599-4E42-B885-52A72B38C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5D7E-F6AF-4F5A-9368-778B587A5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CBA1-D7FD-4C25-AE2D-E93A72D1E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4E38-260C-4419-810D-E9C241C38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0B96-DFCC-4F17-B106-3E4101EC1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D2BB-2C4B-4712-81A5-D953CC128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4A77-0166-4813-9E4C-E419D8752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5969-3D01-4533-B2E9-A25FA0D7D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9EE3-E9C4-4A7B-9098-FC853CBEB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0967-2615-4770-945F-E95408D59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93F2-7EBB-4842-B3C0-5DB997A0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49D0-58F0-4900-8923-D7A6FDA1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B9EEC-2D4C-4FF0-B64B-0D48EA7645D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1219320"/>
          <a:ext cx="6929640" cy="48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219320"/>
                    <a:ext cx="692964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2286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9966ff"/>
                </a:solidFill>
                <a:latin typeface="Times New Roman"/>
              </a:rPr>
              <a:t>Intercambiador de calor de tubos concéntr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2744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0" y="380880"/>
          <a:ext cx="5715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571500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5334120" y="3048120"/>
          <a:ext cx="3209760" cy="32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3048120"/>
                    <a:ext cx="32097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 rot="2178000">
            <a:off x="2437920" y="5105520"/>
            <a:ext cx="4343400" cy="838080"/>
          </a:xfrm>
          <a:custGeom>
            <a:avLst/>
            <a:gdLst>
              <a:gd name="textAreaLeft" fmla="*/ 759960 w 4343400"/>
              <a:gd name="textAreaRight" fmla="*/ 3148920 w 4343400"/>
              <a:gd name="textAreaTop" fmla="*/ 112320 h 838080"/>
              <a:gd name="textAreaBottom" fmla="*/ 7257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457200"/>
            <a:ext cx="9144000" cy="56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BALANCE DE CALOR TOTAL EN EL INTERCAMBIADO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Q 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h :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Calor que cede el fluído calient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(mC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T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h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– T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ho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Q 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= Calor que absorbe el fluído frí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((mC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T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co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– T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c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Si no hay pérdidas importantes de calo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= Q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= Q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     (Balance de calor total del intercambiador)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BALANCE DIFERENCIAL DE CALOR EN AREA d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dq = (mC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dT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    (calor cedido por fluído caliente)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dq = (mC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dT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   (calor absorbido por fluído frío)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16002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Ec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2666880"/>
            <a:ext cx="22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Ec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53080" y="37339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Ec.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867280" y="487692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Ec.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5410080"/>
            <a:ext cx="22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Ec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02444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2743200" y="609480"/>
                <a:ext cx="2286000" cy="4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388620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8380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5764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819520" y="1295280"/>
                <a:ext cx="20574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Δ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533520" y="19810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ntonc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8620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590920" y="1600200"/>
                <a:ext cx="22860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ΔT</m:t>
                        </m:r>
                      </m:e>
                      <m:e>
                        <m:r>
                          <m:t xml:space="preserve">→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Δ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4457880" y="3340080"/>
                <a:ext cx="22860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410040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2590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ero de balances diferenciales se tiene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8632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362320" y="5029200"/>
                <a:ext cx="350496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Δ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C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C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406224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3429000" y="3124080"/>
                <a:ext cx="190512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C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C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609480" y="44956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ueg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a velocidad de transferencia de calor en dA 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1371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533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c.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638680" y="1295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c.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48520" y="5257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c.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87180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819520" y="990720"/>
                <a:ext cx="266688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u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i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ou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7621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e balance global (Ec 1: Ec. 2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120" y="2057400"/>
            <a:ext cx="571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ustituyendo (mC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/(mC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en Ec. 8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1452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838080" y="2895480"/>
                <a:ext cx="746784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Δ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u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out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ou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u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out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838080" y="3809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ueg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219320" y="4343400"/>
                <a:ext cx="556236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Δ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Δ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Δ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out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Δ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Δ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762120" y="56386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eemplazando dq de Ec. 5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3908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2590920" y="304920"/>
                <a:ext cx="388620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Δ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228600" y="1143000"/>
            <a:ext cx="8915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eordenando y suponiendo U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stante a lo largo del intercambiad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028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133720" y="1676520"/>
                <a:ext cx="434340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ΔT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ΔT</m:t>
                        </m:r>
                        <m:r>
                          <m:t xml:space="preserve">2</m:t>
                        </m:r>
                      </m:sup>
                      <m:e>
                        <m:f>
                          <m:num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r>
                              <m:t xml:space="preserve">Δ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AO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762120" y="289548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e donde se tiene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286000" y="3429000"/>
                <a:ext cx="3962520" cy="24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Δ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Δ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Δ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ΔT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Δ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Δ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Δ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ΔT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838080" y="48006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3809880"/>
            <a:ext cx="8077320" cy="29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, ento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= U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stas ecuaciones son válidas para flujo paralelo (co-corriente), flujo contracorriente, condensadores y evaporadores (ver siguiente diapositiv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380880"/>
            <a:ext cx="74674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n el caso de que el coeficiente U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varía alo largo del intercambiador se puede tomar los valores en los extremos 1 y 2 y calcular en forma mas precisa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9080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676520" y="1981080"/>
                <a:ext cx="3504960" cy="14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ΔT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457200" y="990720"/>
          <a:ext cx="7848720" cy="532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90720"/>
                    <a:ext cx="7848720" cy="53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685800" y="1522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erfiles de temperatura en intercambiadores de c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1T23:46:22Z</dcterms:created>
  <dc:creator>Tomás Vargas </dc:creator>
  <dc:description/>
  <dc:language>en-US</dc:language>
  <cp:lastModifiedBy>Tomas Vargas</cp:lastModifiedBy>
  <dcterms:modified xsi:type="dcterms:W3CDTF">2007-08-06T22:34:24Z</dcterms:modified>
  <cp:revision>9</cp:revision>
  <dc:subject/>
  <dc:title>Presentación de PowerPoint</dc:title>
</cp:coreProperties>
</file>