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092-175B-4F0E-B038-17C3C160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81D-FE45-447E-BEF0-42EA9B94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140-9B6A-4709-B93E-725FA62B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C85-876B-456C-9F51-3E36ABF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A08-7940-4BC1-9FB7-581F886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12F-D4AB-49E9-8677-CFA4A4A9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9C8-3B8B-4EFC-BDF5-4EA72711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CBFD-6D41-4DD8-95E3-543AFB6C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924-D0E4-4EAD-AF87-EA59D1D1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84E-8320-4099-A4F0-B42F4518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8FA-13B0-4EBC-9F58-4757D2EF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F6D-6058-421B-BF17-5DA395A6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ED3-9ED7-4481-A5B9-0D4DA4F8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8-01T19:43:16Z</dcterms:modified>
  <cp:revision>12</cp:revision>
  <dc:subject/>
  <dc:title>Presentación de PowerPoint</dc:title>
</cp:coreProperties>
</file>