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473-EE73-4F56-9187-00E2CE6C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82E-82C6-4F73-A09E-92E983D0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BF0-4B63-45DC-8D63-661905B9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07B-AF41-4741-A261-5A65765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638-C414-4A64-A1C9-0C4D256D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486-21A2-4781-B1EA-78718B4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075-801F-47F0-973B-29B9B99A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AC4-A4C8-4B29-82A0-E8FF506E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695-F746-4A90-8EBF-9C11F1DB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543-D1BF-4E2A-9A50-CA28877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F6B-7865-4817-ABC2-B69B9E7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7E0-3A99-48D0-870B-4161418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232-E40D-4842-AE1C-1E8376E8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8-01T19:43:16Z</dcterms:modified>
  <cp:revision>12</cp:revision>
  <dc:subject/>
  <dc:title>Presentación de PowerPoint</dc:title>
</cp:coreProperties>
</file>