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B208-D3D0-475E-89B6-BACBCAE98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A988-DBE0-4BA2-9FCB-24051DBA4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644E-FB91-460D-9332-71D98E1C8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9A76-49B1-48A4-9451-51D48F7BC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DE3E-3709-4980-922F-C50610433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C4F8-D7B2-487F-B813-097DA5BD8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667D-5FE1-4230-BBDF-02A2B61E3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2FEE-1844-4F82-97F1-21C350CE2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F1AE-261A-476A-96EB-A959F7610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A384-895D-4538-BFAD-3DB41190E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B595-FB46-4737-B84E-E9A8B5FEB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0ECB-8F7C-4691-A799-A9672E98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EC1FA-3FBC-4056-AFCE-AFCD705970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4572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Flujo calor por conducción a través de una pared pl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3880" y="213372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00400" y="213372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2292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7242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213372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14600" y="213372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2133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2514240" y="2133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3720" y="16002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3880" y="64008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52388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657600" y="6019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610080" y="79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47920" y="3276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48769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28954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w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76720" y="457200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w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52840" y="79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00280" y="79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5715000" y="1149480"/>
                <a:ext cx="2143080" cy="494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A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Δx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=</m:t>
                            </m:r>
                          </m:e>
                        </m:nary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A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</m:e>
                        </m:d>
                      </m:e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</m:num>
                          <m:den>
                            <m:f>
                              <m:num>
                                <m:r>
                                  <m:t xml:space="preserve">Δx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</m:den>
                            </m:f>
                          </m:den>
                        </m:f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Δx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990720" y="266688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2133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/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23880" y="3276720"/>
            <a:ext cx="167652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5181480" y="2819520"/>
                <a:ext cx="2714760" cy="337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</m:e>
                        </m:d>
                      </m:e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</m:e>
                        </m:d>
                      </m:e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67" name=""/>
          <p:cNvGraphicFramePr/>
          <p:nvPr/>
        </p:nvGraphicFramePr>
        <p:xfrm>
          <a:off x="304920" y="762120"/>
          <a:ext cx="449568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762120"/>
                    <a:ext cx="449568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304920" y="3049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Flujo de calor por conducción y convección a través de una pared pl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028000" y="2997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028000" y="3860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740720" y="50133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250920" y="326880"/>
                <a:ext cx="3606840" cy="628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</m:e>
                        </m:d>
                      </m:e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w</m:t>
                                    </m:r>
                                  </m:sub>
                                </m:sSub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Δx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</m:e>
                        </m:d>
                      </m:e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  <m:r>
                                  <m:t xml:space="preserve">A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  <m:sub>
                                        <m:r>
                                          <m:t xml:space="preserve">w</m:t>
                                        </m:r>
                                      </m:sub>
                                    </m:sSub>
                                    <m:r>
                                      <m:t xml:space="preserve">A</m:t>
                                    </m:r>
                                  </m:num>
                                  <m:den>
                                    <m:r>
                                      <m:t xml:space="preserve">Δx</m:t>
                                    </m:r>
                                  </m:den>
                                </m:f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</m:sSub>
                                    <m:r>
                                      <m:t xml:space="preserve">A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  <m:sub>
                                            <m:r>
                                              <m:t xml:space="preserve">w</m:t>
                                            </m:r>
                                          </m:sub>
                                        </m:sSub>
                                        <m:r>
                                          <m:t xml:space="preserve">A</m:t>
                                        </m:r>
                                      </m:num>
                                      <m:den>
                                        <m:r>
                                          <m:t xml:space="preserve">Δx</m:t>
                                        </m:r>
                                      </m:den>
                                    </m:f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c</m:t>
                                        </m:r>
                                      </m:sub>
                                    </m:sSub>
                                    <m:r>
                                      <m:t xml:space="preserve">A</m:t>
                                    </m:r>
                                  </m:den>
                                </m:f>
                              </m:e>
                            </m: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4479840" y="882720"/>
                <a:ext cx="4388040" cy="16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Δ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A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4191120" y="152280"/>
            <a:ext cx="0" cy="609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3640" y="33336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348000" y="1341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348000" y="2060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19640" y="314172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0" y="2852640"/>
            <a:ext cx="316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4716360" y="3429000"/>
                <a:ext cx="123192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6907320" y="3449520"/>
                <a:ext cx="116352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x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4471920" y="4724280"/>
                <a:ext cx="135432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3419640" y="53737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68360" y="333360"/>
            <a:ext cx="770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395280" y="333360"/>
            <a:ext cx="756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11280" y="333360"/>
            <a:ext cx="77770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VALUACION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T ASOCIADO A CADA RESIS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emplazando en (7) el flujo de calor expresado en términos de la resistencia en el fluído caliente (ecuación (1), se tie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4508640" y="3340080"/>
                <a:ext cx="1267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684360" y="1844640"/>
                <a:ext cx="4176720" cy="14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h</m:t>
                        </m:r>
                      </m:sub>
                    </m:sSub>
                    <m:r>
                      <m:t xml:space="preserve">)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w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Δx</m:t>
                                </m:r>
                              </m:den>
                            </m:f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755640" y="3429000"/>
            <a:ext cx="2087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 don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755640" y="4076640"/>
                <a:ext cx="4392720" cy="14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)</m:t>
                    </m:r>
                    <m:f>
                      <m:num>
                        <m:r>
                          <m:t xml:space="preserve">1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11280" y="404640"/>
            <a:ext cx="583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611280" y="907920"/>
                <a:ext cx="482436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h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d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684360" y="26028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 se puede escribir, en términos de resistencias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00000" y="2133720"/>
            <a:ext cx="6120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mente, para los otro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T se tie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3203640" y="2781360"/>
                <a:ext cx="395604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)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900000" y="3716280"/>
            <a:ext cx="136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3348000" y="3860640"/>
                <a:ext cx="383076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c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)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755640" y="522936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 sea, cada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T es proporcional a la importancia relativa de la resistencia respectiva con respecto a la resistencia to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5T03:20:14Z</dcterms:created>
  <dc:creator>Tomás Vargas </dc:creator>
  <dc:description/>
  <dc:language>en-US</dc:language>
  <cp:lastModifiedBy>Tomas Vargas</cp:lastModifiedBy>
  <dcterms:modified xsi:type="dcterms:W3CDTF">2007-08-01T19:43:16Z</dcterms:modified>
  <cp:revision>12</cp:revision>
  <dc:subject/>
  <dc:title>Presentación de PowerPoint</dc:title>
</cp:coreProperties>
</file>