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406-90A2-4A2A-BF6A-2352D495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885-A675-4B62-9300-4EC8D9B9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6A3-E08D-4708-A9CA-2F3B44BC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CFB-EB57-4AC9-9914-7DE4C40B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7B9-0078-41D6-A932-7541D9CA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50A-E272-4CC4-B5DD-2548FED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B08-A7D2-4D35-BF08-64DEAA31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C3D-EE6E-4C97-AB6C-1EE9FA81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55D-64DF-47AD-956D-5C78A20B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940-8D5A-4F25-B550-1290F51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ABC-4CD4-4861-9499-E38C582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7B5-B7CD-484F-ACC3-5D3A6EE8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8182-D23E-4A34-9FF3-0EE19EC3F6C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as Vargas</cp:lastModifiedBy>
  <dcterms:modified xsi:type="dcterms:W3CDTF">2007-07-30T22:10:00Z</dcterms:modified>
  <cp:revision>13</cp:revision>
  <dc:subject/>
  <dc:title>Presentación de PowerPoint</dc:title>
</cp:coreProperties>
</file>