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BAF4-9805-44C9-9CD9-C15196FC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F0F9-BABD-48E6-B2A1-73927AB6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5C06-DBB1-4C5C-9240-F8E69E6C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7880-4054-4B7C-BDED-58EB2DA8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0BEF-E9BF-401B-AF18-3D35E37C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4BAE-5C55-4154-940D-33DA4240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1C55-4691-4BEA-90C0-6D9E5812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03EA-F86F-4AE6-B9F7-1751C8BD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D036-79B7-4975-B573-A34E9F28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AE68-99BE-4E61-B578-8C327669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BAEB-4199-4B86-9278-367AABF9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D5D0-84F5-47AE-B764-E78D2792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F077-9082-4AD5-870F-6CC41D9B1C6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3049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LUJO DE CALOR POR CONDUCCIÓN  A TRAVES DE LAS PAREDES DE UN TU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1371600"/>
            <a:ext cx="6019920" cy="4572000"/>
            <a:chOff x="0" y="1371600"/>
            <a:chExt cx="6019920" cy="4572000"/>
          </a:xfrm>
        </p:grpSpPr>
        <p:sp>
          <p:nvSpPr>
            <p:cNvPr id="43" name=""/>
            <p:cNvSpPr/>
            <p:nvPr/>
          </p:nvSpPr>
          <p:spPr>
            <a:xfrm>
              <a:off x="1371600" y="2286000"/>
              <a:ext cx="3962520" cy="10670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81440" y="2514600"/>
              <a:ext cx="2819160" cy="533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362320" y="2667240"/>
              <a:ext cx="1981080" cy="228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1600" y="2819520"/>
              <a:ext cx="0" cy="312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334120" y="28195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440" y="2819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00600" y="2819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1676520"/>
              <a:ext cx="609480" cy="1219320"/>
            </a:xfrm>
            <a:prstGeom prst="downArrow">
              <a:avLst>
                <a:gd name="adj1" fmla="val 50000"/>
                <a:gd name="adj2" fmla="val 50015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124440" y="1676520"/>
              <a:ext cx="609480" cy="1143000"/>
            </a:xfrm>
            <a:prstGeom prst="upArrow">
              <a:avLst>
                <a:gd name="adj1" fmla="val 50000"/>
                <a:gd name="adj2" fmla="val 46884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33920" y="13716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Times New Roman"/>
                </a:rPr>
                <a:t>Fluído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52424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3399ff"/>
                  </a:solidFill>
                  <a:latin typeface="Times New Roman"/>
                </a:rPr>
                <a:t>Fluído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4952880" y="3962520"/>
            <a:ext cx="2514600" cy="2514600"/>
          </a:xfrm>
          <a:prstGeom prst="ellipse">
            <a:avLst/>
          </a:prstGeom>
          <a:solidFill>
            <a:srgbClr val="00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4343400"/>
            <a:ext cx="1676160" cy="1676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4572000"/>
            <a:ext cx="1218960" cy="1219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510552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4724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8120" y="1522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09480" y="380880"/>
            <a:ext cx="3353040" cy="2971800"/>
            <a:chOff x="609480" y="380880"/>
            <a:chExt cx="3353040" cy="2971800"/>
          </a:xfrm>
        </p:grpSpPr>
        <p:sp>
          <p:nvSpPr>
            <p:cNvPr id="61" name=""/>
            <p:cNvSpPr/>
            <p:nvPr/>
          </p:nvSpPr>
          <p:spPr>
            <a:xfrm>
              <a:off x="685800" y="380880"/>
              <a:ext cx="3276720" cy="2971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95280" y="838080"/>
              <a:ext cx="2133720" cy="205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05120" y="137124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47920" y="990360"/>
              <a:ext cx="1828800" cy="167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05120" y="1371240"/>
              <a:ext cx="990360" cy="990720"/>
            </a:xfrm>
            <a:prstGeom prst="ellipse">
              <a:avLst/>
            </a:prstGeom>
            <a:solidFill>
              <a:srgbClr val="ff505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2438280" y="609480"/>
              <a:ext cx="7621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438280" y="1904760"/>
              <a:ext cx="381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1447920" y="1752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80" y="1752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209320" y="1904760"/>
              <a:ext cx="228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90920" y="15998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81080" y="2209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114264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8080" y="1295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2120" y="2742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28800" y="99036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00068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105520" y="304920"/>
            <a:ext cx="1981080" cy="1106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495680" y="9907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Notar que en estado estacionario dT/dr decrece con aumento de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4320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4320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419720" y="2286000"/>
                <a:ext cx="3317760" cy="365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r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</m:den>
                            </m:f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/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8152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209680" y="2971800"/>
                <a:ext cx="3048120" cy="24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685800" y="152280"/>
            <a:ext cx="69343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o el flujo q a través de la pared de un cilindro se puede expresar con una ecuación similar al caso de una pared plana,, introduciendo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   ,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área media logarítm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4800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4952880" cy="1290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371600" y="5867280"/>
            <a:ext cx="5486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radio medio logarít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66680" y="3808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lujo de calor entre dos fluídos a través de la pared de un tu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6712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952880" y="1219320"/>
                <a:ext cx="274320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92" name=""/>
          <p:cNvGraphicFramePr/>
          <p:nvPr/>
        </p:nvGraphicFramePr>
        <p:xfrm>
          <a:off x="533520" y="1447920"/>
          <a:ext cx="365760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365760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4336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886200" y="4191120"/>
                <a:ext cx="47912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60036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447920" y="609480"/>
                <a:ext cx="312408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1295280" y="1828800"/>
            <a:ext cx="6400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o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/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y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. Lu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4320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905120" y="2666880"/>
                <a:ext cx="26812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36766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1952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600200" y="4038480"/>
                <a:ext cx="297180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1219320" y="5562720"/>
            <a:ext cx="5943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 coeficiente global de transferencia de calor (base área exte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3808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nálogamente, si se toma como base el área interna del tub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8136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600200" y="1219320"/>
                <a:ext cx="304812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2514600" y="40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600200" y="2971800"/>
                <a:ext cx="327672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219320" y="5562720"/>
            <a:ext cx="5943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 coeficiente global de transferencia de calor (base área inte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7T04:18:40Z</dcterms:created>
  <dc:creator>Tomás Vargas </dc:creator>
  <dc:description/>
  <dc:language>en-US</dc:language>
  <cp:lastModifiedBy>Tomas Vargas</cp:lastModifiedBy>
  <dcterms:modified xsi:type="dcterms:W3CDTF">2007-07-30T22:10:00Z</dcterms:modified>
  <cp:revision>13</cp:revision>
  <dc:subject/>
  <dc:title>Presentación de PowerPoint</dc:title>
</cp:coreProperties>
</file>